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69693"/>
        <c:axId val="73777540"/>
      </c:barChart>
      <c:catAx>
        <c:axId val="28369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7540"/>
        <c:crosses val="autoZero"/>
        <c:auto val="1"/>
        <c:lblAlgn val="ctr"/>
        <c:lblOffset val="100"/>
        <c:noMultiLvlLbl val="0"/>
      </c:catAx>
      <c:valAx>
        <c:axId val="73777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69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01F-2CCF-4A5C-AA33-E8FF9CC4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B87-ED56-4ABF-B1BE-1FE325D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DCC-8F48-4041-BEA9-5AACB9B2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680-C408-4E62-9F6A-25B90EC8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15F-F5F0-450D-AFD5-3745A8B7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7E7-EAAC-4290-9C3E-1DA119F0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DBF-6678-496C-B479-F80D7297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9C7-318C-43A6-B78E-5B25AC0E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5DE-CA76-4684-AE81-F5E2BB2B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D9B-E507-4798-8A4E-848F6594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C1B-4DEF-4C5B-977A-168598DD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67E-AE79-4B1D-A13C-32323026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C3808-E399-4C9F-8CC5-31C7DA8DC2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