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49423"/>
        <c:axId val="78249209"/>
      </c:barChart>
      <c:catAx>
        <c:axId val="12849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49209"/>
        <c:crosses val="autoZero"/>
        <c:auto val="1"/>
        <c:lblAlgn val="ctr"/>
        <c:lblOffset val="100"/>
        <c:noMultiLvlLbl val="0"/>
      </c:catAx>
      <c:valAx>
        <c:axId val="78249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49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8B2-6EC9-4162-B67D-03C6DBA1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939-AD56-4FEE-9A34-52294552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811-28D0-4E68-8144-C3B7BC6A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718-0A91-4378-903A-85228470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F03-09C8-4922-AF06-E05351F5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03F-5432-4C55-B746-21210774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368-CEBC-411A-8ACF-4882CFC5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4B8-B4BA-4744-883E-02820499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69B-4046-4EB1-BE23-EBE870CA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E73-46EA-4762-B305-4931F7DE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2AA-08E6-40C8-8B6B-4CC6CCBD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F78-21F3-4074-BEF4-5E053275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54D0F-8179-4336-BF4E-98008EDE19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