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7764"/>
        <c:axId val="72643692"/>
      </c:barChart>
      <c:catAx>
        <c:axId val="3667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43692"/>
        <c:crosses val="autoZero"/>
        <c:auto val="1"/>
        <c:lblAlgn val="ctr"/>
        <c:lblOffset val="100"/>
        <c:noMultiLvlLbl val="0"/>
      </c:catAx>
      <c:valAx>
        <c:axId val="72643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7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D97-B53F-4A54-886E-34367DE0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F00-BBE6-485D-99D0-4BFB1B4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D81-5ACD-4986-85CA-9B558F4E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269-A8DC-4AE1-B03D-B974E23C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CDF-AF02-4901-9E8B-1795DA66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A17-E717-4066-9A05-E7C8F0AD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2BE-F053-454F-ABC8-DF8274CE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14F-81D0-4307-A5AB-3B046CEF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902-7889-4AB3-AF07-38339885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60A-E23D-49CE-875D-478DC8C6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D7F-B738-4AF7-89C5-E8FCE4AF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341-E0EC-48C1-8C29-997F5C5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4B6B9-8C4F-478C-8BCA-5D6213FC44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