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05615"/>
        <c:axId val="3002493"/>
      </c:barChart>
      <c:catAx>
        <c:axId val="35705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2493"/>
        <c:crosses val="autoZero"/>
        <c:auto val="1"/>
        <c:lblAlgn val="ctr"/>
        <c:lblOffset val="100"/>
        <c:noMultiLvlLbl val="0"/>
      </c:catAx>
      <c:valAx>
        <c:axId val="3002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05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380-7314-48F6-B58F-6DDAAFD6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9AC-B150-4902-8878-4992FE51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ADA-E9EB-4B1C-9749-18F9EFD5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877-EFDC-4E59-8670-01D81227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423-BC11-4C7F-B6D9-84E4CCB5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DA6-36C7-4980-9381-19AD05A7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2CF-E1E8-418A-889F-01F8B176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A61B-21F8-4930-A09A-0FA7BD99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997-2FBF-46DD-9DB9-3AE1919A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1B49-98B0-4900-A6BE-7D553DFF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AF9-CC5C-4B47-8930-82AB5572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520-FD36-4C39-AD84-4900722C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F2290-B5C4-4C96-BBD9-11FECF4D0C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