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4943"/>
        <c:axId val="62486487"/>
      </c:barChart>
      <c:catAx>
        <c:axId val="3204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86487"/>
        <c:crosses val="autoZero"/>
        <c:auto val="1"/>
        <c:lblAlgn val="ctr"/>
        <c:lblOffset val="100"/>
        <c:noMultiLvlLbl val="0"/>
      </c:catAx>
      <c:valAx>
        <c:axId val="62486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4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A5C-FD3A-4F3D-B8AC-982C90C9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7C1-5C0A-4A23-90ED-88C163EC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08E-A409-4448-9D7A-86A2F32F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3A5-CF84-4C3F-B080-83CD7B4E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C1A-12D2-404D-9692-680BEDC2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800-2DE4-4CF0-B8A5-8932FAB8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323-F443-4C20-9DAA-915D265E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FFB-2974-4EA0-90F1-F55448D2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855-08B6-4153-97A3-BEC6B529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88A-B5FA-46F5-AE22-A9822C65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CEB-8546-416F-8850-CB5E0909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5B9-25CE-4FC7-A454-E69E590F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299A2-F299-42F4-A7B7-31F9BA215C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