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01.xml.rels" ContentType="application/vnd.openxmlformats-package.relationships+xml"/>
  <Override PartName="/ppt/notesSlides/notesSlide10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2.jpeg" ContentType="image/jpeg"/>
  <Override PartName="/ppt/media/image1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116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119.xml.rels" ContentType="application/vnd.openxmlformats-package.relationships+xml"/>
  <Override PartName="/ppt/slides/_rels/slide89.xml.rels" ContentType="application/vnd.openxmlformats-package.relationships+xml"/>
  <Override PartName="/ppt/slides/_rels/slide103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  <p:sldId id="305" r:id="rId56"/>
    <p:sldId id="306" r:id="rId57"/>
    <p:sldId id="307" r:id="rId58"/>
    <p:sldId id="308" r:id="rId59"/>
    <p:sldId id="309" r:id="rId60"/>
    <p:sldId id="310" r:id="rId61"/>
    <p:sldId id="311" r:id="rId62"/>
    <p:sldId id="312" r:id="rId63"/>
    <p:sldId id="313" r:id="rId64"/>
    <p:sldId id="314" r:id="rId65"/>
    <p:sldId id="315" r:id="rId66"/>
    <p:sldId id="316" r:id="rId67"/>
    <p:sldId id="317" r:id="rId68"/>
    <p:sldId id="318" r:id="rId69"/>
    <p:sldId id="319" r:id="rId70"/>
    <p:sldId id="320" r:id="rId71"/>
    <p:sldId id="321" r:id="rId72"/>
    <p:sldId id="322" r:id="rId73"/>
    <p:sldId id="323" r:id="rId74"/>
    <p:sldId id="324" r:id="rId75"/>
    <p:sldId id="325" r:id="rId76"/>
    <p:sldId id="326" r:id="rId77"/>
    <p:sldId id="327" r:id="rId78"/>
    <p:sldId id="328" r:id="rId79"/>
    <p:sldId id="329" r:id="rId80"/>
    <p:sldId id="330" r:id="rId81"/>
    <p:sldId id="331" r:id="rId82"/>
    <p:sldId id="332" r:id="rId83"/>
    <p:sldId id="333" r:id="rId84"/>
    <p:sldId id="334" r:id="rId85"/>
    <p:sldId id="335" r:id="rId86"/>
    <p:sldId id="336" r:id="rId87"/>
    <p:sldId id="337" r:id="rId88"/>
    <p:sldId id="338" r:id="rId89"/>
    <p:sldId id="339" r:id="rId90"/>
    <p:sldId id="340" r:id="rId91"/>
    <p:sldId id="341" r:id="rId92"/>
    <p:sldId id="342" r:id="rId93"/>
    <p:sldId id="343" r:id="rId94"/>
    <p:sldId id="344" r:id="rId95"/>
    <p:sldId id="345" r:id="rId96"/>
    <p:sldId id="346" r:id="rId97"/>
    <p:sldId id="347" r:id="rId98"/>
    <p:sldId id="348" r:id="rId99"/>
    <p:sldId id="349" r:id="rId100"/>
    <p:sldId id="350" r:id="rId101"/>
    <p:sldId id="351" r:id="rId102"/>
    <p:sldId id="352" r:id="rId103"/>
    <p:sldId id="353" r:id="rId104"/>
    <p:sldId id="354" r:id="rId105"/>
    <p:sldId id="355" r:id="rId106"/>
    <p:sldId id="356" r:id="rId107"/>
    <p:sldId id="357" r:id="rId108"/>
    <p:sldId id="358" r:id="rId109"/>
    <p:sldId id="359" r:id="rId110"/>
    <p:sldId id="360" r:id="rId111"/>
    <p:sldId id="361" r:id="rId112"/>
    <p:sldId id="362" r:id="rId113"/>
    <p:sldId id="363" r:id="rId114"/>
    <p:sldId id="364" r:id="rId115"/>
    <p:sldId id="365" r:id="rId116"/>
    <p:sldId id="366" r:id="rId117"/>
    <p:sldId id="367" r:id="rId118"/>
    <p:sldId id="368" r:id="rId119"/>
    <p:sldId id="369" r:id="rId120"/>
    <p:sldId id="370" r:id="rId121"/>
    <p:sldId id="371" r:id="rId122"/>
    <p:sldId id="372" r:id="rId123"/>
    <p:sldId id="373" r:id="rId124"/>
    <p:sldId id="374" r:id="rId125"/>
  </p:sldIdLst>
  <p:sldSz cx="9144000" cy="6858000"/>
  <p:notesSz cx="6948488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19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slide" Target="slides/slide50.xml"/><Relationship Id="rId57" Type="http://schemas.openxmlformats.org/officeDocument/2006/relationships/slide" Target="slides/slide51.xml"/><Relationship Id="rId58" Type="http://schemas.openxmlformats.org/officeDocument/2006/relationships/slide" Target="slides/slide52.xml"/><Relationship Id="rId59" Type="http://schemas.openxmlformats.org/officeDocument/2006/relationships/slide" Target="slides/slide53.xml"/><Relationship Id="rId60" Type="http://schemas.openxmlformats.org/officeDocument/2006/relationships/slide" Target="slides/slide54.xml"/><Relationship Id="rId61" Type="http://schemas.openxmlformats.org/officeDocument/2006/relationships/slide" Target="slides/slide55.xml"/><Relationship Id="rId62" Type="http://schemas.openxmlformats.org/officeDocument/2006/relationships/slide" Target="slides/slide56.xml"/><Relationship Id="rId63" Type="http://schemas.openxmlformats.org/officeDocument/2006/relationships/slide" Target="slides/slide57.xml"/><Relationship Id="rId64" Type="http://schemas.openxmlformats.org/officeDocument/2006/relationships/slide" Target="slides/slide58.xml"/><Relationship Id="rId65" Type="http://schemas.openxmlformats.org/officeDocument/2006/relationships/slide" Target="slides/slide59.xml"/><Relationship Id="rId66" Type="http://schemas.openxmlformats.org/officeDocument/2006/relationships/slide" Target="slides/slide60.xml"/><Relationship Id="rId67" Type="http://schemas.openxmlformats.org/officeDocument/2006/relationships/slide" Target="slides/slide61.xml"/><Relationship Id="rId68" Type="http://schemas.openxmlformats.org/officeDocument/2006/relationships/slide" Target="slides/slide62.xml"/><Relationship Id="rId69" Type="http://schemas.openxmlformats.org/officeDocument/2006/relationships/slide" Target="slides/slide63.xml"/><Relationship Id="rId70" Type="http://schemas.openxmlformats.org/officeDocument/2006/relationships/slide" Target="slides/slide64.xml"/><Relationship Id="rId71" Type="http://schemas.openxmlformats.org/officeDocument/2006/relationships/slide" Target="slides/slide65.xml"/><Relationship Id="rId72" Type="http://schemas.openxmlformats.org/officeDocument/2006/relationships/slide" Target="slides/slide66.xml"/><Relationship Id="rId73" Type="http://schemas.openxmlformats.org/officeDocument/2006/relationships/slide" Target="slides/slide67.xml"/><Relationship Id="rId74" Type="http://schemas.openxmlformats.org/officeDocument/2006/relationships/slide" Target="slides/slide68.xml"/><Relationship Id="rId75" Type="http://schemas.openxmlformats.org/officeDocument/2006/relationships/slide" Target="slides/slide69.xml"/><Relationship Id="rId76" Type="http://schemas.openxmlformats.org/officeDocument/2006/relationships/slide" Target="slides/slide70.xml"/><Relationship Id="rId77" Type="http://schemas.openxmlformats.org/officeDocument/2006/relationships/slide" Target="slides/slide71.xml"/><Relationship Id="rId78" Type="http://schemas.openxmlformats.org/officeDocument/2006/relationships/slide" Target="slides/slide72.xml"/><Relationship Id="rId79" Type="http://schemas.openxmlformats.org/officeDocument/2006/relationships/slide" Target="slides/slide73.xml"/><Relationship Id="rId80" Type="http://schemas.openxmlformats.org/officeDocument/2006/relationships/slide" Target="slides/slide74.xml"/><Relationship Id="rId81" Type="http://schemas.openxmlformats.org/officeDocument/2006/relationships/slide" Target="slides/slide75.xml"/><Relationship Id="rId82" Type="http://schemas.openxmlformats.org/officeDocument/2006/relationships/slide" Target="slides/slide76.xml"/><Relationship Id="rId83" Type="http://schemas.openxmlformats.org/officeDocument/2006/relationships/slide" Target="slides/slide77.xml"/><Relationship Id="rId84" Type="http://schemas.openxmlformats.org/officeDocument/2006/relationships/slide" Target="slides/slide78.xml"/><Relationship Id="rId85" Type="http://schemas.openxmlformats.org/officeDocument/2006/relationships/slide" Target="slides/slide79.xml"/><Relationship Id="rId86" Type="http://schemas.openxmlformats.org/officeDocument/2006/relationships/slide" Target="slides/slide80.xml"/><Relationship Id="rId87" Type="http://schemas.openxmlformats.org/officeDocument/2006/relationships/slide" Target="slides/slide81.xml"/><Relationship Id="rId88" Type="http://schemas.openxmlformats.org/officeDocument/2006/relationships/slide" Target="slides/slide82.xml"/><Relationship Id="rId89" Type="http://schemas.openxmlformats.org/officeDocument/2006/relationships/slide" Target="slides/slide83.xml"/><Relationship Id="rId90" Type="http://schemas.openxmlformats.org/officeDocument/2006/relationships/slide" Target="slides/slide84.xml"/><Relationship Id="rId91" Type="http://schemas.openxmlformats.org/officeDocument/2006/relationships/slide" Target="slides/slide85.xml"/><Relationship Id="rId92" Type="http://schemas.openxmlformats.org/officeDocument/2006/relationships/slide" Target="slides/slide86.xml"/><Relationship Id="rId93" Type="http://schemas.openxmlformats.org/officeDocument/2006/relationships/slide" Target="slides/slide87.xml"/><Relationship Id="rId94" Type="http://schemas.openxmlformats.org/officeDocument/2006/relationships/slide" Target="slides/slide88.xml"/><Relationship Id="rId95" Type="http://schemas.openxmlformats.org/officeDocument/2006/relationships/slide" Target="slides/slide89.xml"/><Relationship Id="rId96" Type="http://schemas.openxmlformats.org/officeDocument/2006/relationships/slide" Target="slides/slide90.xml"/><Relationship Id="rId97" Type="http://schemas.openxmlformats.org/officeDocument/2006/relationships/slide" Target="slides/slide91.xml"/><Relationship Id="rId98" Type="http://schemas.openxmlformats.org/officeDocument/2006/relationships/slide" Target="slides/slide92.xml"/><Relationship Id="rId99" Type="http://schemas.openxmlformats.org/officeDocument/2006/relationships/slide" Target="slides/slide93.xml"/><Relationship Id="rId100" Type="http://schemas.openxmlformats.org/officeDocument/2006/relationships/slide" Target="slides/slide94.xml"/><Relationship Id="rId101" Type="http://schemas.openxmlformats.org/officeDocument/2006/relationships/slide" Target="slides/slide95.xml"/><Relationship Id="rId102" Type="http://schemas.openxmlformats.org/officeDocument/2006/relationships/slide" Target="slides/slide96.xml"/><Relationship Id="rId103" Type="http://schemas.openxmlformats.org/officeDocument/2006/relationships/slide" Target="slides/slide97.xml"/><Relationship Id="rId104" Type="http://schemas.openxmlformats.org/officeDocument/2006/relationships/slide" Target="slides/slide98.xml"/><Relationship Id="rId105" Type="http://schemas.openxmlformats.org/officeDocument/2006/relationships/slide" Target="slides/slide99.xml"/><Relationship Id="rId106" Type="http://schemas.openxmlformats.org/officeDocument/2006/relationships/slide" Target="slides/slide100.xml"/><Relationship Id="rId107" Type="http://schemas.openxmlformats.org/officeDocument/2006/relationships/slide" Target="slides/slide101.xml"/><Relationship Id="rId108" Type="http://schemas.openxmlformats.org/officeDocument/2006/relationships/slide" Target="slides/slide102.xml"/><Relationship Id="rId109" Type="http://schemas.openxmlformats.org/officeDocument/2006/relationships/slide" Target="slides/slide103.xml"/><Relationship Id="rId110" Type="http://schemas.openxmlformats.org/officeDocument/2006/relationships/slide" Target="slides/slide104.xml"/><Relationship Id="rId111" Type="http://schemas.openxmlformats.org/officeDocument/2006/relationships/slide" Target="slides/slide105.xml"/><Relationship Id="rId112" Type="http://schemas.openxmlformats.org/officeDocument/2006/relationships/slide" Target="slides/slide106.xml"/><Relationship Id="rId113" Type="http://schemas.openxmlformats.org/officeDocument/2006/relationships/slide" Target="slides/slide107.xml"/><Relationship Id="rId114" Type="http://schemas.openxmlformats.org/officeDocument/2006/relationships/slide" Target="slides/slide108.xml"/><Relationship Id="rId115" Type="http://schemas.openxmlformats.org/officeDocument/2006/relationships/slide" Target="slides/slide109.xml"/><Relationship Id="rId116" Type="http://schemas.openxmlformats.org/officeDocument/2006/relationships/slide" Target="slides/slide110.xml"/><Relationship Id="rId117" Type="http://schemas.openxmlformats.org/officeDocument/2006/relationships/slide" Target="slides/slide111.xml"/><Relationship Id="rId118" Type="http://schemas.openxmlformats.org/officeDocument/2006/relationships/slide" Target="slides/slide112.xml"/><Relationship Id="rId119" Type="http://schemas.openxmlformats.org/officeDocument/2006/relationships/slide" Target="slides/slide113.xml"/><Relationship Id="rId120" Type="http://schemas.openxmlformats.org/officeDocument/2006/relationships/slide" Target="slides/slide114.xml"/><Relationship Id="rId121" Type="http://schemas.openxmlformats.org/officeDocument/2006/relationships/slide" Target="slides/slide115.xml"/><Relationship Id="rId122" Type="http://schemas.openxmlformats.org/officeDocument/2006/relationships/slide" Target="slides/slide116.xml"/><Relationship Id="rId123" Type="http://schemas.openxmlformats.org/officeDocument/2006/relationships/slide" Target="slides/slide117.xml"/><Relationship Id="rId124" Type="http://schemas.openxmlformats.org/officeDocument/2006/relationships/slide" Target="slides/slide118.xml"/><Relationship Id="rId125" Type="http://schemas.openxmlformats.org/officeDocument/2006/relationships/slide" Target="slides/slide119.xml"/><Relationship Id="rId1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0"/>
            <a:ext cx="6948000" cy="923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dt" idx="6"/>
          </p:nvPr>
        </p:nvSpPr>
        <p:spPr>
          <a:xfrm>
            <a:off x="39351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Img"/>
          </p:nvPr>
        </p:nvSpPr>
        <p:spPr>
          <a:xfrm>
            <a:off x="1164960" y="691920"/>
            <a:ext cx="4616280" cy="34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Click to move the slide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body"/>
          </p:nvPr>
        </p:nvSpPr>
        <p:spPr>
          <a:xfrm>
            <a:off x="695160" y="4386240"/>
            <a:ext cx="5556240" cy="4154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ftr" idx="7"/>
          </p:nvPr>
        </p:nvSpPr>
        <p:spPr>
          <a:xfrm>
            <a:off x="-3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 type="sldNum" idx="8"/>
          </p:nvPr>
        </p:nvSpPr>
        <p:spPr>
          <a:xfrm>
            <a:off x="39351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E7A699E5-5AA4-4155-9BF6-287A1D4FFF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sldImg"/>
          </p:nvPr>
        </p:nvSpPr>
        <p:spPr>
          <a:xfrm>
            <a:off x="1165320" y="692280"/>
            <a:ext cx="4616280" cy="3462120"/>
          </a:xfrm>
          <a:prstGeom prst="rect">
            <a:avLst/>
          </a:prstGeom>
          <a:ln w="0">
            <a:noFill/>
          </a:ln>
        </p:spPr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923760" y="4386240"/>
            <a:ext cx="5099040" cy="41544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455333-7741-474B-B021-4F6ABFDE37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9A9A55-253D-4907-9F28-0E1C434BCD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A2ACAB-D715-45FE-BCB2-86CE5D85EB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6CC8A2-04A8-40FD-BC7B-06BB0D59BE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91386D-1885-49BB-B393-76DCCE3053B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86C6B1-84EA-4012-9EDE-84A30598661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8B5D71-1971-4B1D-8C55-32C874A077D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FD63C9-98AE-4320-AA9E-C2CBB13B305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170BF8-4E01-474A-BD21-A3018F2ECD8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86CAB2-2D5E-42C2-B2B4-2E93C273509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DA6722-BF91-43E3-8854-1C2ED274483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A61312-9B4E-4260-A786-020654D967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2564A3-C56A-48FB-BCDD-F5B87B9EE98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D66D0A-CE39-4DB5-9792-8F7D613FB5F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56557C-5231-4F7D-BEB3-9EB24325514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FD6E4F-0314-4E7F-BC5D-A691039DD2E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D3F9E8-228D-4911-95D1-BA68A31E2BE1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35543C-7EF6-4D0A-A1FE-A82F049C3B4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752496-A396-4B24-B8D1-76A2C70403F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D74C62-12B8-49E6-A87D-66F3EBC6BEA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18D3DF-C1AC-4B60-B341-222038BE4F2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D61D58-6311-4187-8F1C-8633F6B7E36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D1BA1F-C59D-4CEF-97F3-758490E0688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C3A0AB-7A1C-47C9-A372-ABFB548FB31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8CAB27-E2CB-4C7C-ACCC-F60E008AC53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156C64-3F16-4C0F-A047-F6BC126F6BA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664E4A-05FE-4C8C-9BDD-EEC7694E1EC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EAE2E7-03E2-48CF-9D10-27C4A74E1DF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37E105-3D26-4D2E-A516-81BEF03EE36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206CC9-9DDB-47EB-A652-9EE3A0096164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CE9234-A186-4314-9FCD-CE90890A8D61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A215A7-2C12-4EAB-9865-E8C7D34FBC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B0EDF5-3EFD-4EBA-8CED-93E7E709BF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ECC8FD-B223-40E3-9C6C-F836ED0F0C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E6C7BC-73E6-4E23-8304-A45C62E572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83096C-B74B-499C-8BAB-6671F181C5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672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61680" y="1776240"/>
            <a:ext cx="77374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154080" y="64623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5CE04-3706-4655-9778-E03B5D9CA667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447920" y="6437160"/>
            <a:ext cx="0" cy="192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475320"/>
            <a:ext cx="76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esentation Title  |  Presentation Subtitle  |  © 2006 by «Author»; made available under the EPL v1.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190440" y="63360"/>
            <a:ext cx="6147000" cy="70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0240" y="1706400"/>
            <a:ext cx="79549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ldNum" idx="2"/>
          </p:nvPr>
        </p:nvSpPr>
        <p:spPr>
          <a:xfrm>
            <a:off x="6883560" y="2408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1FF82-13B8-4769-AEDD-4CA8C91E4F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9840" y="6456240"/>
            <a:ext cx="9099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© 2006 by «Author»; made available under the EPL v1.0 |  Date  |  Other Information, if necessary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190440" y="63360"/>
            <a:ext cx="6147000" cy="70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2" marL="102852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3" marL="144000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4" marL="185148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5" marL="1851480" indent="-2055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6" marL="1851480" indent="-2055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3"/>
          </p:nvPr>
        </p:nvSpPr>
        <p:spPr>
          <a:xfrm>
            <a:off x="358560" y="6381720"/>
            <a:ext cx="6784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464"/>
                </a:solidFill>
                <a:latin typeface="Trebuchet MS"/>
              </a:rPr>
              <a:t>©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4"/>
          </p:nvPr>
        </p:nvSpPr>
        <p:spPr>
          <a:xfrm>
            <a:off x="8675280" y="6453360"/>
            <a:ext cx="909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60ADF-5EC6-4814-BBD2-73E6F2D57AC2}" type="slidenum">
              <a:rPr b="1" lang="de-DE" sz="1400" spc="-1" strike="noStrike">
                <a:solidFill>
                  <a:srgbClr val="646464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Click to edit the title text format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5"/>
          </p:nvPr>
        </p:nvSpPr>
        <p:spPr>
          <a:xfrm>
            <a:off x="358560" y="6381720"/>
            <a:ext cx="6784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464"/>
                </a:solidFill>
                <a:latin typeface="Trebuchet MS"/>
              </a:rPr>
              <a:t>©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<Relationship Id="rId3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jpeg"/><Relationship Id="rId7" Type="http://schemas.openxmlformats.org/officeDocument/2006/relationships/image" Target="../media/image13.png"/><Relationship Id="rId8" Type="http://schemas.openxmlformats.org/officeDocument/2006/relationships/image" Target="../media/image14.jpeg"/><Relationship Id="rId9" Type="http://schemas.openxmlformats.org/officeDocument/2006/relationships/slideLayout" Target="../slideLayouts/slideLayout25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spectj" TargetMode="External"/><Relationship Id="rId3" Type="http://schemas.openxmlformats.org/officeDocument/2006/relationships/hyperlink" Target="http://eclipse.org/aspectj" TargetMode="External"/><Relationship Id="rId4" Type="http://schemas.openxmlformats.org/officeDocument/2006/relationships/hyperlink" Target="http://eclipse.org/ajdt" TargetMode="External"/><Relationship Id="rId5" Type="http://schemas.openxmlformats.org/officeDocument/2006/relationships/slideLayout" Target="../slideLayouts/slideLayout27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jdt/downloads/" TargetMode="External"/><Relationship Id="rId3" Type="http://schemas.openxmlformats.org/officeDocument/2006/relationships/slideLayout" Target="../slideLayouts/slideLayout27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9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9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7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spectj" TargetMode="External"/><Relationship Id="rId3" Type="http://schemas.openxmlformats.org/officeDocument/2006/relationships/hyperlink" Target="http://eclipse.org/aspectj" TargetMode="External"/><Relationship Id="rId4" Type="http://schemas.openxmlformats.org/officeDocument/2006/relationships/slideLayout" Target="../slideLayouts/slideLayout27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95360" y="11044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6699"/>
                </a:solidFill>
                <a:latin typeface="Trebuchet MS"/>
              </a:rPr>
              <a:t>Aspect-Oriented Programming with AspectJ</a:t>
            </a:r>
            <a:r>
              <a:rPr b="0" lang="en-GB" sz="5100" spc="-1" strike="noStrike">
                <a:solidFill>
                  <a:srgbClr val="006699"/>
                </a:solidFill>
                <a:latin typeface="Trebuchet MS"/>
              </a:rPr>
              <a:t> 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875880" y="2550960"/>
            <a:ext cx="7404120" cy="35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dy Clemen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46464"/>
                </a:solidFill>
                <a:latin typeface="Trebuchet MS"/>
              </a:rPr>
              <a:t>AspectJ Committer, IBM UK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72" name=""/>
          <p:cNvSpPr/>
          <p:nvPr/>
        </p:nvSpPr>
        <p:spPr>
          <a:xfrm>
            <a:off x="8019360" y="1700280"/>
            <a:ext cx="32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b5b1"/>
                </a:solidFill>
                <a:latin typeface="Trebuchet MS"/>
              </a:rPr>
              <a:t>®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i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2383920"/>
            <a:ext cx="822960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 small and well-integrated extension 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outputs .class files compatible with any JVM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ll Java programs are AspectJ program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 </a:t>
            </a: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general-purpose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AO langua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just as Java is a general-purpose OO language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03" name=""/>
          <p:cNvSpPr/>
          <p:nvPr/>
        </p:nvSpPr>
        <p:spPr>
          <a:xfrm>
            <a:off x="250920" y="1160640"/>
            <a:ext cx="864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an aspect-oriented extension to Java that supports general-purpose aspect-oriented programm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086680" y="2313000"/>
            <a:ext cx="44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b5b1"/>
                </a:solidFill>
                <a:latin typeface="Trebuchet MS"/>
              </a:rPr>
              <a:t>T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843958-F953-4AD6-B5A8-DF06745E9B65}" type="slidenum">
              <a:t>10</a:t>
            </a:fld>
          </a:p>
        </p:txBody>
      </p:sp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… 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eneficial to separate ou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exactly the same questions as for objec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29040" indent="-32904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does it improve the code in real ways?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separation of concer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larifies interactions, reduces tangling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all the traceEntry are really the sa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asier to modify / exten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change the implementation of trac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lug and pla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racing aspects unplugged but not delete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C2AC08-BEB5-4A5D-9323-241C0B4CDB69}" type="slidenum">
              <a:t>100</a:t>
            </a:fld>
          </a:p>
        </p:txBody>
      </p:sp>
    </p:spTree>
  </p:cSld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3280" y="368280"/>
            <a:ext cx="822960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ected benefits of using AOP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95360" y="1521000"/>
            <a:ext cx="7772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good modularity, even in the presence of crosscutting concer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ess tangled code, more natural code, smaller cod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asier maintenance and evolu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asier to reason about, debug, change</a:t>
            </a: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more reusab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ore possibilities for plug and pla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bstract aspec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18C5A4-997C-4873-847C-DDD0FE0A869A}" type="slidenum">
              <a:t>101</a:t>
            </a:fld>
          </a:p>
        </p:txBody>
      </p:sp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"/>
          <p:cNvSpPr/>
          <p:nvPr/>
        </p:nvSpPr>
        <p:spPr>
          <a:xfrm>
            <a:off x="250920" y="1089000"/>
            <a:ext cx="8677080" cy="540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Adopting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82" name=""/>
          <p:cNvSpPr/>
          <p:nvPr/>
        </p:nvSpPr>
        <p:spPr>
          <a:xfrm>
            <a:off x="740880" y="135900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w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6726240" y="6024600"/>
            <a:ext cx="2084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ime &amp; confide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 flipV="1">
            <a:off x="723960" y="1401480"/>
            <a:ext cx="1440" cy="4629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739800" y="5040360"/>
            <a:ext cx="965160" cy="1000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2670120" y="4089240"/>
            <a:ext cx="965160" cy="1951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1704960" y="4556160"/>
            <a:ext cx="965160" cy="1484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3637080" y="3598920"/>
            <a:ext cx="965160" cy="2441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4602240" y="3116160"/>
            <a:ext cx="966600" cy="2924280"/>
          </a:xfrm>
          <a:prstGeom prst="rect">
            <a:avLst/>
          </a:prstGeom>
          <a:solidFill>
            <a:srgbClr val="00a8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5568840" y="2635200"/>
            <a:ext cx="962280" cy="3405240"/>
          </a:xfrm>
          <a:prstGeom prst="rect">
            <a:avLst/>
          </a:prstGeom>
          <a:solidFill>
            <a:srgbClr val="00a8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6529320" y="1677960"/>
            <a:ext cx="1928880" cy="43624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2732040" y="5300640"/>
            <a:ext cx="1816200" cy="72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uxiliary 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infrastructur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4948200" y="5300640"/>
            <a:ext cx="1212840" cy="727200"/>
          </a:xfrm>
          <a:prstGeom prst="rect">
            <a:avLst/>
          </a:prstGeom>
          <a:solidFill>
            <a:srgbClr val="00a8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core 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busines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7042320" y="5133960"/>
            <a:ext cx="896760" cy="72540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Analysis,</a:t>
            </a: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Design,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Strateg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741240" y="1650960"/>
            <a:ext cx="7716960" cy="3863880"/>
          </a:xfrm>
          <a:custGeom>
            <a:avLst/>
            <a:gdLst/>
            <a:ahLst/>
            <a:rect l="l" t="t" r="r" b="b"/>
            <a:pathLst>
              <a:path w="5109" h="2669">
                <a:moveTo>
                  <a:pt x="0" y="2669"/>
                </a:moveTo>
                <a:lnTo>
                  <a:pt x="1" y="0"/>
                </a:lnTo>
                <a:lnTo>
                  <a:pt x="5109" y="7"/>
                </a:lnTo>
                <a:lnTo>
                  <a:pt x="0" y="266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 flipV="1">
            <a:off x="739800" y="1509480"/>
            <a:ext cx="8050320" cy="4019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731880" y="6032520"/>
            <a:ext cx="8128080" cy="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1341360" y="5340240"/>
            <a:ext cx="965160" cy="652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863640" y="5486400"/>
            <a:ext cx="1674720" cy="3636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xploration</a:t>
            </a: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nforcemen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18D2F9-421B-474C-969F-0479FA474F1A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6699"/>
                </a:solidFill>
                <a:latin typeface="Trebuchet MS"/>
              </a:rPr>
              <a:t>Exploration &amp; Enforcement</a:t>
            </a:r>
            <a:endParaRPr b="0" lang="en-US" sz="38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s to monitor, analyze, debug system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an use individually or share with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s that ensure design integrit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an run privately, as part of nightly build, or shared w/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haring with team can be supported b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integration in IDE or including in ant scrip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No runtime dependency on AspectJ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production code has not been touched by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02" name=""/>
          <p:cNvSpPr/>
          <p:nvPr/>
        </p:nvSpPr>
        <p:spPr>
          <a:xfrm>
            <a:off x="7253280" y="113364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7253280" y="907920"/>
            <a:ext cx="209520" cy="225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7670880" y="692280"/>
            <a:ext cx="209520" cy="441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7462800" y="798480"/>
            <a:ext cx="208080" cy="335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7880400" y="581040"/>
            <a:ext cx="209520" cy="552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808992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829944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8507520" y="147600"/>
            <a:ext cx="41724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 flipV="1">
            <a:off x="725328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7236000" y="115920"/>
            <a:ext cx="173808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7B043C-3349-4B30-82E4-089E1749E492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Don’t use System.err.println !!!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13" name=""/>
          <p:cNvSpPr/>
          <p:nvPr/>
        </p:nvSpPr>
        <p:spPr>
          <a:xfrm>
            <a:off x="934920" y="2421000"/>
            <a:ext cx="7382160" cy="3257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ublic aspec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EnforceLogging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cope()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m.example..*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&amp;&amp;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!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nsoleDebugger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printing()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ge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ystem.out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||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ge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ystem.err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||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Throwable+.printStackTrace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declare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arning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cope(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&amp;&amp;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printing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8000"/>
                </a:solidFill>
                <a:latin typeface="Lucida Console"/>
              </a:rPr>
              <a:t>"don't print, use the logger"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6840" y="1398600"/>
            <a:ext cx="8086680" cy="33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Warn developers using System.out, System.err and printStackTra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8BA75E-64E3-4422-92F2-B34521861955}" type="slidenum">
              <a:t>104</a:t>
            </a:fld>
          </a:p>
        </p:txBody>
      </p:sp>
    </p:spTree>
  </p:cSld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rchitectural Layer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16" name=""/>
          <p:cNvSpPr/>
          <p:nvPr/>
        </p:nvSpPr>
        <p:spPr>
          <a:xfrm>
            <a:off x="3772080" y="3518280"/>
            <a:ext cx="144756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ie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3619440" y="1460880"/>
            <a:ext cx="171468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sist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3772080" y="2527920"/>
            <a:ext cx="144756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d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3809880" y="4585320"/>
            <a:ext cx="137160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trol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20" name=""/>
          <p:cNvCxnSpPr>
            <a:stCxn id="816" idx="0"/>
            <a:endCxn id="818" idx="2"/>
          </p:cNvCxnSpPr>
          <p:nvPr/>
        </p:nvCxnSpPr>
        <p:spPr>
          <a:xfrm flipV="1">
            <a:off x="4495320" y="2932200"/>
            <a:ext cx="1080" cy="581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821" name=""/>
          <p:cNvCxnSpPr>
            <a:stCxn id="819" idx="0"/>
            <a:endCxn id="816" idx="2"/>
          </p:cNvCxnSpPr>
          <p:nvPr/>
        </p:nvCxnSpPr>
        <p:spPr>
          <a:xfrm flipV="1">
            <a:off x="4495320" y="3922200"/>
            <a:ext cx="1080" cy="658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822" name=""/>
          <p:cNvCxnSpPr>
            <a:stCxn id="818" idx="0"/>
            <a:endCxn id="817" idx="2"/>
          </p:cNvCxnSpPr>
          <p:nvPr/>
        </p:nvCxnSpPr>
        <p:spPr>
          <a:xfrm flipH="1" flipV="1">
            <a:off x="4475880" y="1864800"/>
            <a:ext cx="19800" cy="658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grpSp>
        <p:nvGrpSpPr>
          <p:cNvPr id="823" name=""/>
          <p:cNvGrpSpPr/>
          <p:nvPr/>
        </p:nvGrpSpPr>
        <p:grpSpPr>
          <a:xfrm>
            <a:off x="647640" y="4309920"/>
            <a:ext cx="8762760" cy="990720"/>
            <a:chOff x="647640" y="4309920"/>
            <a:chExt cx="8762760" cy="990720"/>
          </a:xfrm>
        </p:grpSpPr>
        <p:sp>
          <p:nvSpPr>
            <p:cNvPr id="824" name=""/>
            <p:cNvSpPr/>
            <p:nvPr/>
          </p:nvSpPr>
          <p:spPr>
            <a:xfrm>
              <a:off x="647640" y="4309920"/>
              <a:ext cx="7647480" cy="9907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844600" y="4606920"/>
              <a:ext cx="356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ayer</a:t>
              </a:r>
              <a:r>
                <a:rPr b="0" lang="en-US" sz="2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26" name=""/>
          <p:cNvSpPr/>
          <p:nvPr/>
        </p:nvSpPr>
        <p:spPr>
          <a:xfrm>
            <a:off x="647640" y="3208320"/>
            <a:ext cx="7618320" cy="99072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6972480" y="3513240"/>
            <a:ext cx="126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yer</a:t>
            </a: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647640" y="2141640"/>
            <a:ext cx="7620120" cy="99036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6896160" y="2446200"/>
            <a:ext cx="14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yer</a:t>
            </a: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30" name=""/>
          <p:cNvGrpSpPr/>
          <p:nvPr/>
        </p:nvGrpSpPr>
        <p:grpSpPr>
          <a:xfrm>
            <a:off x="647640" y="1150920"/>
            <a:ext cx="7619760" cy="914400"/>
            <a:chOff x="647640" y="1150920"/>
            <a:chExt cx="7619760" cy="914400"/>
          </a:xfrm>
        </p:grpSpPr>
        <p:sp>
          <p:nvSpPr>
            <p:cNvPr id="831" name=""/>
            <p:cNvSpPr/>
            <p:nvPr/>
          </p:nvSpPr>
          <p:spPr>
            <a:xfrm>
              <a:off x="647640" y="1150920"/>
              <a:ext cx="7619760" cy="9144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7084440" y="1424880"/>
              <a:ext cx="103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ayer</a:t>
              </a:r>
              <a:r>
                <a:rPr b="0" lang="en-US" sz="2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833" name=""/>
          <p:cNvCxnSpPr>
            <a:stCxn id="819" idx="3"/>
            <a:endCxn id="818" idx="3"/>
          </p:cNvCxnSpPr>
          <p:nvPr/>
        </p:nvCxnSpPr>
        <p:spPr>
          <a:xfrm flipV="1">
            <a:off x="5181480" y="2727000"/>
            <a:ext cx="38880" cy="2057760"/>
          </a:xfrm>
          <a:prstGeom prst="curvedConnector5">
            <a:avLst>
              <a:gd name="adj1" fmla="val 1724299"/>
              <a:gd name="adj2" fmla="val 49991"/>
              <a:gd name="adj3" fmla="val 1724299"/>
            </a:avLst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EA6C3D-5A77-49D1-BA31-2534E8F4211A}" type="slidenum">
              <a:t>105</a:t>
            </a:fld>
          </a:p>
        </p:txBody>
      </p:sp>
    </p:spTree>
  </p:cSld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Map packages to component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5" name=""/>
          <p:cNvSpPr/>
          <p:nvPr/>
        </p:nvSpPr>
        <p:spPr>
          <a:xfrm>
            <a:off x="539640" y="1881360"/>
            <a:ext cx="8153640" cy="20408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Architecture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View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view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Model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model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Controller() :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ntroller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Persistence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persistence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E55A74-07CB-4F66-AEE6-5A2A57D0D64A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6699"/>
                </a:solidFill>
                <a:latin typeface="Trebuchet MS"/>
              </a:rPr>
              <a:t>‘</a:t>
            </a:r>
            <a:r>
              <a:rPr b="0" lang="en-GB" sz="4200" spc="-1" strike="noStrike">
                <a:solidFill>
                  <a:srgbClr val="006699"/>
                </a:solidFill>
                <a:latin typeface="Trebuchet MS"/>
              </a:rPr>
              <a:t>External’ calls into components</a:t>
            </a:r>
            <a:endParaRPr b="0" lang="en-US" sz="42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7" name=""/>
          <p:cNvSpPr/>
          <p:nvPr/>
        </p:nvSpPr>
        <p:spPr>
          <a:xfrm>
            <a:off x="468360" y="1449360"/>
            <a:ext cx="8153280" cy="3077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view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view..*(..)) &amp;&amp; !inView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model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model..*(..)) &amp;&amp; !inModel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controller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controller..*(..)) &amp;&amp; !inController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persistence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persistence..*(..)) &amp;&amp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!inPersistenc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jdbcCall() 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javax.sql..*(..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313E07-9A54-446A-9ADD-D0895E30BB37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Compile warnings for illegal call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9" name=""/>
          <p:cNvSpPr/>
          <p:nvPr/>
        </p:nvSpPr>
        <p:spPr>
          <a:xfrm>
            <a:off x="431640" y="1341360"/>
            <a:ext cx="8153640" cy="39301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controllerCall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No calls into controller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viewCall() &amp;&amp; !inController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controller can call view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modelCall() &amp;&amp; !(inController() || inView()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view and controller can call mode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persistenceCall() &amp;&amp; !inModel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model can access persistence layer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: jdbcCall() &amp;&amp; !inPersistence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Persistence layer handles all db access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67DD80-315E-4C2B-A384-43B22B0732D2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Auxiliary/Infrastructur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Whole team awarenes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developers know aspects are the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runtime dependency on aspectjrt.jar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But only some developers 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 working practic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 day-to-day tool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asily understood business cas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42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88D690-05FC-4240-9C3A-E3214A8D546B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i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2383920"/>
            <a:ext cx="822960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includes IDE suppor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JDT support for Eclips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0">
              <a:lnSpc>
                <a:spcPct val="75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freely available implementatio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mpiler &amp; tools are Open Sour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0">
              <a:lnSpc>
                <a:spcPct val="75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ctive user commun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j-users@eclipse.org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324000" y="1160640"/>
            <a:ext cx="849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an aspect-oriented extension to Java that supports general-purpose aspect-oriented programm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80D728-009A-4023-AB6D-C5F3ABEC69D6}" type="slidenum">
              <a:t>11</a:t>
            </a:fld>
          </a:p>
        </p:txBody>
      </p:sp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Example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racing, logg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rror and exception handl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onitoring and statistics gather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ransac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ession management (for e.g. persistence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read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ynchroniz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Cach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Remote acces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54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2B862D-3829-4332-A91E-C3844A795D5A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Building the Ca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Factors: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Number of source files in projec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verage time spent per file over a releas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(e.g. on tracing code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66" name=""/>
          <p:cNvSpPr/>
          <p:nvPr/>
        </p:nvSpPr>
        <p:spPr>
          <a:xfrm>
            <a:off x="612720" y="3500280"/>
            <a:ext cx="7920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 files x 15 minutes = 25 person 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500 files x 15 minutes = 3.5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0 files x 15 minutes = 7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EF930F-AA34-4564-9E42-7A5A36559952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Building the Ca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You can certainl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write and test a simple tracing aspect in &lt; 25 hour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write and test a good tracing aspect in &lt; 50 hour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d save a lot of ti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79" name=""/>
          <p:cNvSpPr/>
          <p:nvPr/>
        </p:nvSpPr>
        <p:spPr>
          <a:xfrm>
            <a:off x="971640" y="3500280"/>
            <a:ext cx="7024680" cy="1414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 flipH="1">
            <a:off x="952560" y="3392640"/>
            <a:ext cx="7004160" cy="14824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611280" y="3500280"/>
            <a:ext cx="7920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 files x 15 minutes = 25 person 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500 files x 15 minutes = 3.5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0 files x 15 minutes = 7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7326360" y="112536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7326360" y="900000"/>
            <a:ext cx="209520" cy="225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7743960" y="684360"/>
            <a:ext cx="209520" cy="441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7535880" y="790560"/>
            <a:ext cx="208080" cy="334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7953480" y="573120"/>
            <a:ext cx="209520" cy="5522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8163000" y="465120"/>
            <a:ext cx="209520" cy="660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8372520" y="355680"/>
            <a:ext cx="208080" cy="769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8580600" y="139680"/>
            <a:ext cx="417240" cy="985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7326360" y="10332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7308720" y="10800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824C6F-C1C6-49EA-885C-08CB9D7FD2DE}" type="slidenum">
              <a:t>1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Core/Business Aspec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aspects when implementing application’s core functional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Requires full team buy-in to AspectJ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s to tool set (e.g. JDT -&gt; AJDT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You’ll be ready if you followed staged approach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ough developers will understand technolog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ough developers will be aware of valu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anagement will be aware of valu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94" name=""/>
          <p:cNvSpPr/>
          <p:nvPr/>
        </p:nvSpPr>
        <p:spPr>
          <a:xfrm>
            <a:off x="7326360" y="112536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7326360" y="900000"/>
            <a:ext cx="209520" cy="225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7743960" y="684360"/>
            <a:ext cx="209520" cy="4410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7535880" y="790560"/>
            <a:ext cx="208080" cy="334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7953480" y="573120"/>
            <a:ext cx="209520" cy="552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8163000" y="465120"/>
            <a:ext cx="209520" cy="66024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8372520" y="355680"/>
            <a:ext cx="208080" cy="7696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8580600" y="139680"/>
            <a:ext cx="417240" cy="985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 flipV="1">
            <a:off x="7326360" y="10332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7308720" y="10800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C12B30-8B13-43D8-927A-FF263483BF89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The book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pic>
        <p:nvPicPr>
          <p:cNvPr id="905" name="" descr=""/>
          <p:cNvPicPr/>
          <p:nvPr/>
        </p:nvPicPr>
        <p:blipFill>
          <a:blip r:embed="rId2"/>
          <a:stretch/>
        </p:blipFill>
        <p:spPr>
          <a:xfrm>
            <a:off x="395280" y="1233360"/>
            <a:ext cx="3102120" cy="4102200"/>
          </a:xfrm>
          <a:prstGeom prst="rect">
            <a:avLst/>
          </a:prstGeom>
          <a:ln w="0">
            <a:noFill/>
          </a:ln>
        </p:spPr>
      </p:pic>
      <p:pic>
        <p:nvPicPr>
          <p:cNvPr id="906" name="" descr=""/>
          <p:cNvPicPr/>
          <p:nvPr/>
        </p:nvPicPr>
        <p:blipFill>
          <a:blip r:embed="rId3"/>
          <a:stretch/>
        </p:blipFill>
        <p:spPr>
          <a:xfrm>
            <a:off x="7272360" y="3573360"/>
            <a:ext cx="1541520" cy="193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7" name="" descr=""/>
          <p:cNvPicPr/>
          <p:nvPr/>
        </p:nvPicPr>
        <p:blipFill>
          <a:blip r:embed="rId4"/>
          <a:stretch/>
        </p:blipFill>
        <p:spPr>
          <a:xfrm>
            <a:off x="3851280" y="3429000"/>
            <a:ext cx="1557360" cy="1944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8" name="" descr=""/>
          <p:cNvPicPr/>
          <p:nvPr/>
        </p:nvPicPr>
        <p:blipFill>
          <a:blip r:embed="rId5"/>
          <a:stretch/>
        </p:blipFill>
        <p:spPr>
          <a:xfrm>
            <a:off x="5543640" y="3537000"/>
            <a:ext cx="1619280" cy="1942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9" name="" descr=""/>
          <p:cNvPicPr/>
          <p:nvPr/>
        </p:nvPicPr>
        <p:blipFill>
          <a:blip r:embed="rId6"/>
          <a:stretch/>
        </p:blipFill>
        <p:spPr>
          <a:xfrm>
            <a:off x="5543640" y="1233360"/>
            <a:ext cx="1643040" cy="2303640"/>
          </a:xfrm>
          <a:prstGeom prst="rect">
            <a:avLst/>
          </a:prstGeom>
          <a:ln w="0">
            <a:noFill/>
          </a:ln>
        </p:spPr>
      </p:pic>
      <p:pic>
        <p:nvPicPr>
          <p:cNvPr id="910" name="" descr=""/>
          <p:cNvPicPr/>
          <p:nvPr/>
        </p:nvPicPr>
        <p:blipFill>
          <a:blip r:embed="rId7"/>
          <a:stretch/>
        </p:blipFill>
        <p:spPr>
          <a:xfrm>
            <a:off x="7272360" y="1268280"/>
            <a:ext cx="1581120" cy="2232000"/>
          </a:xfrm>
          <a:prstGeom prst="rect">
            <a:avLst/>
          </a:prstGeom>
          <a:ln w="0">
            <a:noFill/>
          </a:ln>
        </p:spPr>
      </p:pic>
      <p:pic>
        <p:nvPicPr>
          <p:cNvPr id="911" name="" descr=""/>
          <p:cNvPicPr/>
          <p:nvPr/>
        </p:nvPicPr>
        <p:blipFill>
          <a:blip r:embed="rId8"/>
          <a:stretch/>
        </p:blipFill>
        <p:spPr>
          <a:xfrm>
            <a:off x="3780000" y="1268280"/>
            <a:ext cx="1655640" cy="2076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88E5FC-7D11-4266-81FD-540AAB848985}" type="slidenum">
              <a:t>1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on the web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Trebuchet MS"/>
                <a:hlinkClick r:id="rId3"/>
              </a:rPr>
              <a:t>eclipse.org/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9999"/>
                </a:solidFill>
                <a:uFillTx/>
                <a:latin typeface="Trebuchet MS"/>
                <a:hlinkClick r:id="rId4"/>
              </a:rPr>
              <a:t>http://eclipse.org/ajd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Join the mailing lists from our homep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mail me!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ndy Clement, clemas@uk.ibm.co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C9C4F2-8AC4-4677-935A-EBA3F03576A2}" type="slidenum">
              <a:t>115</a:t>
            </a:fld>
          </a:p>
        </p:txBody>
      </p:sp>
    </p:spTree>
  </p:cSld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6699"/>
                </a:solidFill>
                <a:latin typeface="Trebuchet MS"/>
              </a:rPr>
              <a:t>Part IV</a:t>
            </a:r>
            <a:endParaRPr b="0" lang="en-US" sz="65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 type="subTitle"/>
          </p:nvPr>
        </p:nvSpPr>
        <p:spPr>
          <a:xfrm>
            <a:off x="2347920" y="20368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464"/>
                </a:solidFill>
                <a:latin typeface="Trebuchet MS"/>
              </a:rPr>
              <a:t>Hands on</a:t>
            </a: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Getting set up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Handouts and exercises plug-in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http://eclipse.org/ajdt/EclipseCon2006/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clipse 3.1.1 or 3.1.2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 1.3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clipse 3.2RC2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 1.4.dev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JDT downloads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eclipse.org/ajdt/downloads/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rom the memory key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ull eclipse including everything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clipse312_ajdt131_exercises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clipse32rc2_ajdt140_exercises.ja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Or… (unzip in your base eclipse directory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_1.3.1_for_eclipse_3.1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_1.4.0.20060503081550_archive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Org.aspectj.tutorial.exercises_1.0.0.ja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531B02-A8C8-4386-A0B1-ED720AB502BA}" type="slidenum">
              <a:t>1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technolog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is a small extension to Java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id Java programs are also valid AspectJ program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has its own compiler, ajc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runs on Java 2 platform (Java 1.3 or later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roduces Java platform-compatible .class files </a:t>
            </a:r>
            <a:br>
              <a:rPr sz="2000"/>
            </a:b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(Java 1.1 - 1.5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tools suppor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clipse support: AJD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nt task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orks with existing debugg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icens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iler, runtime and tools are Open Source and free for any us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68B839-D0EA-4696-858D-2B366A7F0293}" type="slidenum">
              <a:t>118</a:t>
            </a:fld>
          </a:p>
        </p:txBody>
      </p:sp>
    </p:spTree>
  </p:cSld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redi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21" name=""/>
          <p:cNvSpPr/>
          <p:nvPr/>
        </p:nvSpPr>
        <p:spPr>
          <a:xfrm>
            <a:off x="324000" y="1523880"/>
            <a:ext cx="8604000" cy="47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spectJ* &amp; AJDT are Eclipse.org pro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urrent AspectJ and AJDT committers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rian Colyer, Matt Chapman, Andrew Clement, Helen Hawkins, Wes Isberg, Sian January, Mik Kersten, Alexandre Vasseur, Julie Waterhouse, and Matthew Webs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table work by: Ron Bodkin, Erik Hilsdale, Jim Hugunin, Gregor Kicz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* Originally developed at PARC, with support from NIST and DARPA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spectJ is a registered trademark of Palo Alto Research Center Inc. in the United States and/or other countri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Java and all Java-based trademarks are trademarks of Sun Microsystems, Inc. in the United States, other countries, or both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A7B212-79B3-46FC-81A9-B56C7CEF5D48}" type="slidenum">
              <a:t>119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xample: java code base with 10,000 files and 500 develop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30320" indent="-1303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omparison of capturing policies with ‘regular’ techniques or with AspectJ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ogging  (yey!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rror hand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rofiling polic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5ACAB6-9AFA-4D5E-AE32-645E8F2768D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What’s the difference?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11" name=""/>
          <p:cNvSpPr/>
          <p:nvPr/>
        </p:nvSpPr>
        <p:spPr>
          <a:xfrm>
            <a:off x="1619280" y="2023920"/>
            <a:ext cx="50472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87280" y="299736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050920" y="299736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1440000" y="245592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871640" y="245592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86364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31640" y="472608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295280" y="472608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684360" y="418464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11600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050920" y="375300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292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30364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124000" y="3068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403280" y="494028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19280" y="4797360"/>
            <a:ext cx="14256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556000" y="4976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368360" y="3068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800360" y="2276640"/>
            <a:ext cx="142920" cy="10764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31640" y="2097000"/>
            <a:ext cx="50508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76360" y="223992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476360" y="324792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03280" y="4869000"/>
            <a:ext cx="142920" cy="10764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232000" y="389736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771640" y="497664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95280" y="2997360"/>
            <a:ext cx="504720" cy="43164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87280" y="1557360"/>
            <a:ext cx="2952720" cy="3708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traditional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091280" y="2023920"/>
            <a:ext cx="50508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659640" y="299736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523280" y="299736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6912000" y="245592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343640" y="2455920"/>
            <a:ext cx="3970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33564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90400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6764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6156360" y="418464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588000" y="4184640"/>
            <a:ext cx="3970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52328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95492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77564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904000" y="2097000"/>
            <a:ext cx="50472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564000" y="4292640"/>
            <a:ext cx="395280" cy="39672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867280" y="2924280"/>
            <a:ext cx="505080" cy="50472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759280" y="1557360"/>
            <a:ext cx="2953080" cy="3708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op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867280" y="2997360"/>
            <a:ext cx="46836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564000" y="4797360"/>
            <a:ext cx="395280" cy="39708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032360" y="4329000"/>
            <a:ext cx="16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logg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032360" y="4834080"/>
            <a:ext cx="16905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ecur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456000" y="4221000"/>
            <a:ext cx="1871640" cy="104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743280" y="2097000"/>
            <a:ext cx="1332000" cy="611280"/>
          </a:xfrm>
          <a:custGeom>
            <a:avLst/>
            <a:gdLst>
              <a:gd name="textAreaLeft" fmla="*/ 208080 w 1332000"/>
              <a:gd name="textAreaRight" fmla="*/ 1165680 w 1332000"/>
              <a:gd name="textAreaTop" fmla="*/ 152640 h 611280"/>
              <a:gd name="textAreaBottom" fmla="*/ 458640 h 611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8064360" y="2097000"/>
            <a:ext cx="505080" cy="432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76720" y="2781360"/>
            <a:ext cx="2592360" cy="14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Reduced scatter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Reduced tang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64000" y="4797360"/>
            <a:ext cx="14256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F95DAB-D6A8-465E-ADAF-0F4F920D6A7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Eliminating tangl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216000" y="1160280"/>
            <a:ext cx="4427280" cy="50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ry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if (!removed) entityBean.ejbPassivate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setState( POOLED 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catch (RemoteException ex 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FFDCEngine.processException(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ex,”EBean.passivate()”,”237”,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this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destroy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hrow ex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finally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if (!removed &amp;&amp;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statisticsCollector != null 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statisticsCollector.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recordPassivation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removed = false;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beanPool.put( this 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if (Logger.isEnabled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Logger.exit(tc,”passivate”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660560" y="785880"/>
            <a:ext cx="4033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7" name=""/>
          <p:cNvSpPr/>
          <p:nvPr/>
        </p:nvSpPr>
        <p:spPr>
          <a:xfrm>
            <a:off x="4716360" y="1160640"/>
            <a:ext cx="3816360" cy="23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ry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if (!removed) entityBean.ejbPassiv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setState( POOLED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catch (RemoteException ex 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destroy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hrow ex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finally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removed = false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beanPool.put( this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780160" y="3683160"/>
            <a:ext cx="283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Crosscutting concer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extrac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148360" y="4616280"/>
            <a:ext cx="3519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Example: Code to handle EJB Entity bean passiv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6300360" y="3357360"/>
            <a:ext cx="25092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024360" y="1160640"/>
            <a:ext cx="1618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bef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912000" y="1160640"/>
            <a:ext cx="16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af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B5D5E7-0DF9-4F19-83C0-87A660B2E19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87280" y="1557000"/>
            <a:ext cx="40384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existing policy implement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ffect every fi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5-30 page policy documen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pplied by develop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ffect every develop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ust understand policy documen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392720" y="1557000"/>
            <a:ext cx="45352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policies implemented with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-3358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one reusable crosscutting modu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licy captured explicitl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pplies policy uniformly for all ti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-3358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ritten by central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no burden on other 492 develop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96A64F-7F0A-4D9D-ADD3-57A49402FB5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87280" y="1557000"/>
            <a:ext cx="40384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existing policy implement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repeat for new code asse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wkward to support varian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licates product lin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don’t even think about changing the policy!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392720" y="1557000"/>
            <a:ext cx="45352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policies implemented with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utomatically applied to new cod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asy plug and unplu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implifies product line issu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hanges to policy happen in one plac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7E817C-F27B-4BDE-A6BC-820E0FCC3EC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Part II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990360" y="27428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646464"/>
                </a:solidFill>
                <a:latin typeface="Trebuchet MS"/>
              </a:rPr>
              <a:t>tutorial</a:t>
            </a:r>
            <a:endParaRPr b="0" lang="en-US" sz="41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language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goal: present basic mechanism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using one simple exampl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mphasis on what the mechanisms do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mall scale motiv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BAB0AE-AB0C-47AB-B80F-EFB1C2974596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asic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ONE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overlay on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dynamic join points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oints in the execution” of Java program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BB9158-FD41-4BFB-9629-E1A972F5BCE0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utlin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   AOP and AspectJ overview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otivation for AOP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roblems, basic concepts, contex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I   AspectJ tutorial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language mechanism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writing aspec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Java5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the eclipse tools (demo…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II   Adopting AspectJ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3E229F-9D8B-4AB9-A0FF-72C759DDD2EA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asic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FOUR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small additions 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pointcut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ick out join points and values at those points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551960" indent="-2214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rimitive, user-defined pointcu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advi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dditional action to take at join points in a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inter-type declaration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aspect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 modular unit of crosscutting behavio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551960" indent="-2214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rised of advice, inter-type, pointcut,</a:t>
            </a:r>
            <a:br>
              <a:rPr sz="2000"/>
            </a:b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eld, constructor, and method declar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B3C6A8-2463-43E2-BFED-643134862B59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figure editor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5796000" y="2176560"/>
            <a:ext cx="2305080" cy="1469880"/>
            <a:chOff x="5796000" y="2176560"/>
            <a:chExt cx="2305080" cy="1469880"/>
          </a:xfrm>
        </p:grpSpPr>
        <p:sp>
          <p:nvSpPr>
            <p:cNvPr id="291" name=""/>
            <p:cNvSpPr/>
            <p:nvPr/>
          </p:nvSpPr>
          <p:spPr>
            <a:xfrm>
              <a:off x="5796000" y="2176560"/>
              <a:ext cx="2305080" cy="146988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436080" y="25880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051960" y="24116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524720" y="27644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012440" y="24116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044480" y="2441160"/>
              <a:ext cx="511920" cy="35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692400" y="3234600"/>
              <a:ext cx="768240" cy="294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656400" y="3194280"/>
              <a:ext cx="6372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656400" y="3495960"/>
              <a:ext cx="6372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420680" y="319788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425000" y="3499560"/>
              <a:ext cx="6372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2" name=""/>
          <p:cNvSpPr/>
          <p:nvPr/>
        </p:nvSpPr>
        <p:spPr>
          <a:xfrm flipH="1" flipV="1">
            <a:off x="5021280" y="2701800"/>
            <a:ext cx="1216080" cy="1764000"/>
          </a:xfrm>
          <a:prstGeom prst="line">
            <a:avLst/>
          </a:prstGeom>
          <a:ln w="19080">
            <a:solidFill>
              <a:srgbClr val="0033cc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843280" y="4702320"/>
            <a:ext cx="3394080" cy="484200"/>
          </a:xfrm>
          <a:custGeom>
            <a:avLst/>
            <a:gdLst/>
            <a:ahLst/>
            <a:rect l="l" t="t" r="r" b="b"/>
            <a:pathLst>
              <a:path w="2595" h="396">
                <a:moveTo>
                  <a:pt x="2595" y="0"/>
                </a:moveTo>
                <a:lnTo>
                  <a:pt x="1807" y="391"/>
                </a:lnTo>
                <a:lnTo>
                  <a:pt x="540" y="396"/>
                </a:lnTo>
                <a:lnTo>
                  <a:pt x="0" y="208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111640" y="4584600"/>
            <a:ext cx="1125720" cy="139680"/>
          </a:xfrm>
          <a:custGeom>
            <a:avLst/>
            <a:gdLst/>
            <a:ahLst/>
            <a:rect l="l" t="t" r="r" b="b"/>
            <a:pathLst>
              <a:path w="935" h="120">
                <a:moveTo>
                  <a:pt x="935" y="0"/>
                </a:moveTo>
                <a:lnTo>
                  <a:pt x="0" y="120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904000" y="4149720"/>
            <a:ext cx="1728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operations that move ele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700360" y="1278000"/>
            <a:ext cx="2654280" cy="1165320"/>
          </a:xfrm>
          <a:custGeom>
            <a:avLst/>
            <a:gdLst/>
            <a:ahLst/>
            <a:rect l="l" t="t" r="r" b="b"/>
            <a:pathLst>
              <a:path w="2404" h="951">
                <a:moveTo>
                  <a:pt x="2404" y="0"/>
                </a:moveTo>
                <a:lnTo>
                  <a:pt x="519" y="432"/>
                </a:lnTo>
                <a:lnTo>
                  <a:pt x="0" y="951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111640" y="1052640"/>
            <a:ext cx="1432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factory metho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120680" y="1376280"/>
            <a:ext cx="1536840" cy="34452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Displa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657520" y="1940040"/>
            <a:ext cx="76824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189240" y="1720800"/>
            <a:ext cx="19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2647440" y="3757680"/>
            <a:ext cx="76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693880" y="3451320"/>
            <a:ext cx="25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13" name=""/>
          <p:cNvCxnSpPr/>
          <p:nvPr/>
        </p:nvCxnSpPr>
        <p:spPr>
          <a:xfrm flipV="1">
            <a:off x="1879200" y="3106440"/>
            <a:ext cx="1080" cy="23544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4" name=""/>
          <p:cNvCxnSpPr/>
          <p:nvPr/>
        </p:nvCxnSpPr>
        <p:spPr>
          <a:xfrm flipV="1">
            <a:off x="4176360" y="3104280"/>
            <a:ext cx="1080" cy="23436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5" name=""/>
          <p:cNvCxnSpPr/>
          <p:nvPr/>
        </p:nvCxnSpPr>
        <p:spPr>
          <a:xfrm>
            <a:off x="1879200" y="3106440"/>
            <a:ext cx="2305440" cy="108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6" name=""/>
          <p:cNvCxnSpPr/>
          <p:nvPr/>
        </p:nvCxnSpPr>
        <p:spPr>
          <a:xfrm flipV="1">
            <a:off x="4176720" y="2755440"/>
            <a:ext cx="10080" cy="34992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grpSp>
        <p:nvGrpSpPr>
          <p:cNvPr id="317" name=""/>
          <p:cNvGrpSpPr/>
          <p:nvPr/>
        </p:nvGrpSpPr>
        <p:grpSpPr>
          <a:xfrm>
            <a:off x="1111320" y="3349800"/>
            <a:ext cx="1697040" cy="1734840"/>
            <a:chOff x="1111320" y="3349800"/>
            <a:chExt cx="1697040" cy="1734840"/>
          </a:xfrm>
        </p:grpSpPr>
        <p:sp>
          <p:nvSpPr>
            <p:cNvPr id="318" name=""/>
            <p:cNvSpPr/>
            <p:nvPr/>
          </p:nvSpPr>
          <p:spPr>
            <a:xfrm>
              <a:off x="1111320" y="3349800"/>
              <a:ext cx="1697040" cy="376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oi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111320" y="3853800"/>
              <a:ext cx="1697040" cy="1230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X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Y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X(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Y(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111320" y="3725280"/>
              <a:ext cx="1697040" cy="128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3416400" y="3349800"/>
            <a:ext cx="1695240" cy="1734840"/>
            <a:chOff x="3416400" y="3349800"/>
            <a:chExt cx="1695240" cy="1734840"/>
          </a:xfrm>
        </p:grpSpPr>
        <p:sp>
          <p:nvSpPr>
            <p:cNvPr id="322" name=""/>
            <p:cNvSpPr/>
            <p:nvPr/>
          </p:nvSpPr>
          <p:spPr>
            <a:xfrm>
              <a:off x="3416400" y="3349800"/>
              <a:ext cx="1695240" cy="376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Lin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416400" y="3853800"/>
              <a:ext cx="1695240" cy="1230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P1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P2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P1(Po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P2(Po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416400" y="3725280"/>
              <a:ext cx="1695240" cy="128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1120680" y="1914480"/>
            <a:ext cx="1536840" cy="1052280"/>
            <a:chOff x="1120680" y="1914480"/>
            <a:chExt cx="1536840" cy="1052280"/>
          </a:xfrm>
        </p:grpSpPr>
        <p:sp>
          <p:nvSpPr>
            <p:cNvPr id="326" name=""/>
            <p:cNvSpPr/>
            <p:nvPr/>
          </p:nvSpPr>
          <p:spPr>
            <a:xfrm>
              <a:off x="1120680" y="1914480"/>
              <a:ext cx="1536840" cy="34560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Arial"/>
                </a:rPr>
                <a:t>Figur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120680" y="2259000"/>
              <a:ext cx="1536840" cy="7077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kePoint(..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keLine(..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120680" y="2256480"/>
              <a:ext cx="1536840" cy="110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3425760" y="1914480"/>
            <a:ext cx="1536840" cy="991800"/>
            <a:chOff x="3425760" y="1914480"/>
            <a:chExt cx="1536840" cy="991800"/>
          </a:xfrm>
        </p:grpSpPr>
        <p:sp>
          <p:nvSpPr>
            <p:cNvPr id="330" name=""/>
            <p:cNvSpPr/>
            <p:nvPr/>
          </p:nvSpPr>
          <p:spPr>
            <a:xfrm>
              <a:off x="3425760" y="1914480"/>
              <a:ext cx="1536840" cy="34524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333399"/>
                  </a:solidFill>
                  <a:latin typeface="Arial"/>
                </a:rPr>
                <a:t>FigureEleme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129920" y="2788920"/>
              <a:ext cx="127800" cy="117360"/>
            </a:xfrm>
            <a:prstGeom prst="triangle">
              <a:avLst>
                <a:gd name="adj" fmla="val 50000"/>
              </a:avLst>
            </a:prstGeom>
            <a:noFill/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425760" y="2257200"/>
              <a:ext cx="1536840" cy="5313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425760" y="2253600"/>
              <a:ext cx="1536840" cy="110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2894DE-4B07-4156-9201-D8992C251547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figure editor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5904000" y="2205000"/>
            <a:ext cx="2743200" cy="1905120"/>
            <a:chOff x="5904000" y="2205000"/>
            <a:chExt cx="2743200" cy="1905120"/>
          </a:xfrm>
        </p:grpSpPr>
        <p:sp>
          <p:nvSpPr>
            <p:cNvPr id="336" name=""/>
            <p:cNvSpPr/>
            <p:nvPr/>
          </p:nvSpPr>
          <p:spPr>
            <a:xfrm>
              <a:off x="5904000" y="2205000"/>
              <a:ext cx="2743200" cy="190512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666120" y="27385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208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961400" y="2967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351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390080" y="254808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971040" y="357660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928200" y="35244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928200" y="39150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837560" y="352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842600" y="39196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296640" y="1085760"/>
            <a:ext cx="5057640" cy="4231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p1 = p1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p2 = p2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oint implements FigureElement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x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x = x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y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y = y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E66901-BDA0-4F6D-9E38-B9DD5B0DADBB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display upda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216000" y="1413000"/>
            <a:ext cx="58975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ollection of figure elemen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that move periodicall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ust refresh the display as need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50" name=""/>
          <p:cNvSpPr/>
          <p:nvPr/>
        </p:nvSpPr>
        <p:spPr>
          <a:xfrm>
            <a:off x="5904000" y="418464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5904000" y="2205000"/>
            <a:ext cx="2743200" cy="1905120"/>
            <a:chOff x="5904000" y="2205000"/>
            <a:chExt cx="2743200" cy="1905120"/>
          </a:xfrm>
        </p:grpSpPr>
        <p:sp>
          <p:nvSpPr>
            <p:cNvPr id="352" name=""/>
            <p:cNvSpPr/>
            <p:nvPr/>
          </p:nvSpPr>
          <p:spPr>
            <a:xfrm>
              <a:off x="5904000" y="2205000"/>
              <a:ext cx="2743200" cy="190512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66120" y="27385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208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961400" y="2967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351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0080" y="254808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971040" y="357660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928200" y="35244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928200" y="39150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837560" y="352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842600" y="39196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A812F2-0CFF-4437-8A3D-B5D6BAF7E6B6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64" name=""/>
          <p:cNvSpPr/>
          <p:nvPr/>
        </p:nvSpPr>
        <p:spPr>
          <a:xfrm>
            <a:off x="3419640" y="1015920"/>
            <a:ext cx="550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key points in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rebuchet MS"/>
              </a:rPr>
              <a:t>dynamic</a:t>
            </a: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 call grap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948360" y="4329000"/>
            <a:ext cx="2016360" cy="80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7020000" y="440064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7020000" y="479736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201080" y="4365720"/>
            <a:ext cx="183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execu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7201080" y="476100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ca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051000" y="21798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467080" y="1771560"/>
            <a:ext cx="0" cy="35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087640" y="1484280"/>
            <a:ext cx="75708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2343240" y="2057400"/>
            <a:ext cx="245880" cy="297972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979720"/>
              <a:gd name="textAreaBottom" fmla="*/ 2967840 h 2979720"/>
            </a:gdLst>
            <a:ahLst/>
            <a:rect l="textAreaLeft" t="textAreaTop" r="textAreaRight" b="textAreaBottom"/>
            <a:pathLst>
              <a:path w="21600" h="261411">
                <a:moveTo>
                  <a:pt x="3600" y="0"/>
                </a:moveTo>
                <a:arcTo wR="3600" hR="3600" stAng="16200000" swAng="-5400000"/>
                <a:lnTo>
                  <a:pt x="0" y="257811"/>
                </a:lnTo>
                <a:arcTo wR="3600" hR="3600" stAng="10800000" swAng="-5400000"/>
                <a:lnTo>
                  <a:pt x="18000" y="2614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43240" y="2400480"/>
            <a:ext cx="245880" cy="22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4716360" y="177336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211640" y="1484280"/>
            <a:ext cx="100800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465280" y="2573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465280" y="3662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592520" y="2633760"/>
            <a:ext cx="246240" cy="687240"/>
          </a:xfrm>
          <a:custGeom>
            <a:avLst/>
            <a:gdLst>
              <a:gd name="textAreaLeft" fmla="*/ 11880 w 246240"/>
              <a:gd name="textAreaRight" fmla="*/ 234360 w 24624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228">
                <a:moveTo>
                  <a:pt x="3600" y="0"/>
                </a:moveTo>
                <a:arcTo wR="3600" hR="3600" stAng="16200000" swAng="-5400000"/>
                <a:lnTo>
                  <a:pt x="0" y="56628"/>
                </a:lnTo>
                <a:arcTo wR="3600" hR="3600" stAng="10800000" swAng="-5400000"/>
                <a:lnTo>
                  <a:pt x="18000" y="602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4592520" y="2747880"/>
            <a:ext cx="24624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302520" y="176544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797440" y="1479600"/>
            <a:ext cx="100656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178680" y="3714840"/>
            <a:ext cx="245880" cy="68724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316">
                <a:moveTo>
                  <a:pt x="3600" y="0"/>
                </a:moveTo>
                <a:arcTo wR="3600" hR="3600" stAng="16200000" swAng="-5400000"/>
                <a:lnTo>
                  <a:pt x="0" y="56716"/>
                </a:lnTo>
                <a:arcTo wR="3600" hR="3600" stAng="10800000" swAng="-5400000"/>
                <a:lnTo>
                  <a:pt x="18000" y="603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178680" y="3828960"/>
            <a:ext cx="24588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592360" y="2637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592360" y="371628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2592000" y="440064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 flipH="1">
            <a:off x="2592360" y="3321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139760" y="2052720"/>
            <a:ext cx="1308240" cy="7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 flipH="1" flipV="1">
            <a:off x="1139760" y="5032440"/>
            <a:ext cx="1308240" cy="172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42920" y="1341360"/>
            <a:ext cx="190800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magi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l.moveBy(2,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916360" y="234936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1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4695840" y="3429000"/>
            <a:ext cx="210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2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056360" y="39337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Join poi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F6B267-DB3A-43B8-971A-97F4C60769D1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 terminology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	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990360" y="1828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ll kinds of events </a:t>
            </a:r>
            <a:r>
              <a:rPr b="0" i="1" lang="en-US" sz="2500" spc="-1" strike="noStrike">
                <a:solidFill>
                  <a:srgbClr val="646464"/>
                </a:solidFill>
                <a:latin typeface="Trebuchet MS"/>
              </a:rPr>
              <a:t>could be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 join points but AspectJ exposes this set: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ethod &amp; constructor cal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ethod &amp; constructor execu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eld get &amp; se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xception handler execu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tatic &amp; dynamic initializa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EF71D4-1903-46CB-9D14-7922CA63B8DC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503280" y="3844800"/>
            <a:ext cx="81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26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464"/>
                </a:solidFill>
                <a:latin typeface="Trebuchet MS"/>
              </a:rPr>
              <a:t>a pointcut identifies some set of join points</a:t>
            </a: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an match or not match any given join point, an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optionally, can pull out some of the values (‘context’) at that join poin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0" name=""/>
          <p:cNvSpPr/>
          <p:nvPr/>
        </p:nvSpPr>
        <p:spPr>
          <a:xfrm>
            <a:off x="826920" y="4545000"/>
            <a:ext cx="756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33cc"/>
                </a:solidFill>
                <a:latin typeface="Trebuchet MS"/>
              </a:rPr>
              <a:t>matches if the join point is a method call with this signature ‘void Line.setP1(Point)’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3DE4F5-A1B0-47E9-A3DB-F4D43F104756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 composi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pointcuts can be composed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&amp;&amp;, || and !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3" name=""/>
          <p:cNvSpPr/>
          <p:nvPr/>
        </p:nvSpPr>
        <p:spPr>
          <a:xfrm>
            <a:off x="250920" y="4508640"/>
            <a:ext cx="860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cc"/>
                </a:solidFill>
                <a:latin typeface="Trebuchet MS"/>
              </a:rPr>
              <a:t>matches either a call to ‘void Line.setP1(Point)’ or a call to ‘void Line.setP2(Point)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024920" y="314172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32733C-6EC2-4E63-B178-BBA490E6C28F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er-defined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464"/>
                </a:solidFill>
                <a:latin typeface="Trebuchet MS"/>
              </a:rPr>
              <a:t>user-defined (aka named) pointcuts</a:t>
            </a: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an be used in the same way as primitive pointcuts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7" name=""/>
          <p:cNvSpPr/>
          <p:nvPr/>
        </p:nvSpPr>
        <p:spPr>
          <a:xfrm>
            <a:off x="552240" y="212256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800360" y="3176640"/>
            <a:ext cx="503280" cy="36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990000" y="2930400"/>
            <a:ext cx="878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nam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flipH="1">
            <a:off x="2843280" y="3213000"/>
            <a:ext cx="504720" cy="324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299040" y="2960640"/>
            <a:ext cx="1593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paramete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264360" y="3968640"/>
            <a:ext cx="259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808080"/>
                </a:solidFill>
                <a:latin typeface="Trebuchet MS"/>
              </a:rPr>
              <a:t>more on parameters and how pointcut can expose values at join points in a few slides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4551D1-95DA-415F-B695-9742F7B1F7D5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14" name=""/>
          <p:cNvSpPr/>
          <p:nvPr/>
        </p:nvSpPr>
        <p:spPr>
          <a:xfrm>
            <a:off x="457200" y="1341360"/>
            <a:ext cx="822960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646464"/>
                </a:solidFill>
                <a:latin typeface="Trebuchet MS"/>
              </a:rPr>
              <a:t>primitive pointcuts are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call, execution      - this, target, 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get, set             - within, withinco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handler              - cflow, cflowbelo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initialization, static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646464"/>
                </a:solidFill>
                <a:latin typeface="Trebuchet MS"/>
              </a:rPr>
              <a:t>and with AspectJ5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@annotation, @within, @withincode, @this, @target, @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4BF9E9-3479-4AE3-B03D-C0D4A6FE63F8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863640" y="167472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good modularit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584360" y="38941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XML parsing in org.apache.tomcat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relevant lines of code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icely fits in one box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78" name=""/>
          <p:cNvSpPr/>
          <p:nvPr/>
        </p:nvSpPr>
        <p:spPr>
          <a:xfrm>
            <a:off x="3184560" y="12272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668360" y="497664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8FDF4A-1F36-47D6-8405-3E9284F623DA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7020000" y="3578040"/>
            <a:ext cx="1547640" cy="4078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rebuchet MS"/>
              </a:rPr>
              <a:t>After Advi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704520" y="2117880"/>
            <a:ext cx="51184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code here runs after each mov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fter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Advic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dditional action to take at join points in a pointcu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19" name=""/>
          <p:cNvSpPr/>
          <p:nvPr/>
        </p:nvSpPr>
        <p:spPr>
          <a:xfrm>
            <a:off x="6551640" y="253692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8678880" y="2597040"/>
            <a:ext cx="245880" cy="68760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600"/>
              <a:gd name="textAreaBottom" fmla="*/ 675720 h 687600"/>
            </a:gdLst>
            <a:ahLst/>
            <a:rect l="textAreaLeft" t="textAreaTop" r="textAreaRight" b="textAreaBottom"/>
            <a:pathLst>
              <a:path w="21600" h="60347">
                <a:moveTo>
                  <a:pt x="3600" y="0"/>
                </a:moveTo>
                <a:arcTo wR="3600" hR="3600" stAng="16200000" swAng="-5400000"/>
                <a:lnTo>
                  <a:pt x="0" y="56747"/>
                </a:lnTo>
                <a:arcTo wR="3600" hR="3600" stAng="10800000" swAng="-5400000"/>
                <a:lnTo>
                  <a:pt x="18000" y="603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8678880" y="2711520"/>
            <a:ext cx="245880" cy="458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6678720" y="260028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 flipH="1">
            <a:off x="8532720" y="3284640"/>
            <a:ext cx="270000" cy="50472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7002360" y="231300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l.setP1(p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 flipH="1" flipV="1">
            <a:off x="6695640" y="3284640"/>
            <a:ext cx="289080" cy="50472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flipH="1">
            <a:off x="6695640" y="3284640"/>
            <a:ext cx="2089080" cy="0"/>
          </a:xfrm>
          <a:prstGeom prst="line">
            <a:avLst/>
          </a:prstGeom>
          <a:ln w="22320">
            <a:solidFill>
              <a:srgbClr val="bbe0e3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5831AB-D130-4D76-A082-FA14519C32F9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aspec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n aspect defines a ‘special module’ that can crosscut other class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29" name=""/>
          <p:cNvSpPr/>
          <p:nvPr/>
        </p:nvSpPr>
        <p:spPr>
          <a:xfrm>
            <a:off x="560160" y="242424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926740-BF91-46C2-AC6D-FC42E99F6B6F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838080" y="4076280"/>
            <a:ext cx="73152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what you would ex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update calls are tangled through the cod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what is going on” is less explici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2" name=""/>
          <p:cNvSpPr/>
          <p:nvPr/>
        </p:nvSpPr>
        <p:spPr>
          <a:xfrm>
            <a:off x="546120" y="1181160"/>
            <a:ext cx="2923920" cy="29235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B48290-9BAB-4EC3-A502-BEB9E5A478C1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cut across multiple classes…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5" name=""/>
          <p:cNvSpPr/>
          <p:nvPr/>
        </p:nvSpPr>
        <p:spPr>
          <a:xfrm>
            <a:off x="2106360" y="2260440"/>
            <a:ext cx="5118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.setX(int))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F55525-85E3-4A09-A361-30FF43B08DE2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use interface signature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8" name=""/>
          <p:cNvSpPr/>
          <p:nvPr/>
        </p:nvSpPr>
        <p:spPr>
          <a:xfrm>
            <a:off x="986400" y="2690640"/>
            <a:ext cx="6764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igureEleme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</a:t>
            </a: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9BFB84-0A53-4246-9AC1-86282482A092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multi-class aspec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41" name=""/>
          <p:cNvSpPr/>
          <p:nvPr/>
        </p:nvSpPr>
        <p:spPr>
          <a:xfrm>
            <a:off x="556200" y="1960560"/>
            <a:ext cx="6764400" cy="3263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893F3F-CC34-4841-95C6-C3C57E6ECF4D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528120" y="2384280"/>
            <a:ext cx="6901560" cy="29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FigureElement figEl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target(figElt) &amp;&amp;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int, 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igureElement f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fe is bound to the figure element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ing values at join poin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464840"/>
            <a:ext cx="8067600" cy="10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pointcuts can explicitly expose certain value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dvice can use those value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B9DAD5-A7D9-4B95-BD04-B0A84E575642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explaining pointcut parameters…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539280" y="119700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variable is bound by user-defined pointcut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intcut supplies value for variab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ue is available to all users of user-defined pointcu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47" name=""/>
          <p:cNvSpPr/>
          <p:nvPr/>
        </p:nvSpPr>
        <p:spPr>
          <a:xfrm flipH="1">
            <a:off x="3419280" y="2492280"/>
            <a:ext cx="1873080" cy="144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5219640" y="2276640"/>
            <a:ext cx="301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pointcut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489960" y="2600280"/>
            <a:ext cx="5941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 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target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after(Line line) returning: move(line) {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808080"/>
                </a:solidFill>
                <a:latin typeface="Lucida Console"/>
              </a:rPr>
              <a:t>&lt;line is bound to the lin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}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564000" y="3789360"/>
            <a:ext cx="532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yped variable in place of type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 flipH="1" flipV="1">
            <a:off x="2268360" y="3176280"/>
            <a:ext cx="13320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4E8292-E52D-4469-989C-0FEC51EFB93F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laining advice parameter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558720" y="123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variable is bound by advice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intcut supplies value for variab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ue is available in advice bod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54" name=""/>
          <p:cNvSpPr/>
          <p:nvPr/>
        </p:nvSpPr>
        <p:spPr>
          <a:xfrm>
            <a:off x="524880" y="2565360"/>
            <a:ext cx="5941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pointcut move(Line l): 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target(l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(call(void 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call(void Line.setP2(Point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 lin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line is bound to the lin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5580000" y="3284640"/>
            <a:ext cx="342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yped variable in place</a:t>
            </a:r>
            <a:br>
              <a:rPr sz="2400"/>
            </a:b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of type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543640" y="3968640"/>
            <a:ext cx="660240" cy="540000"/>
          </a:xfrm>
          <a:custGeom>
            <a:avLst/>
            <a:gdLst/>
            <a:ahLst/>
            <a:rect l="l" t="t" r="r" b="b"/>
            <a:pathLst>
              <a:path w="503" h="95">
                <a:moveTo>
                  <a:pt x="503" y="0"/>
                </a:moveTo>
                <a:lnTo>
                  <a:pt x="0" y="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195640" y="4184640"/>
            <a:ext cx="79200" cy="347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262080" y="3789360"/>
            <a:ext cx="315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advice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79A5EC-8B79-48A5-A5FE-7BCDCD6A6BE8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laining parameter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09480" y="1267920"/>
            <a:ext cx="792504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6464"/>
                </a:solidFill>
                <a:latin typeface="Trebuchet MS"/>
              </a:rPr>
              <a:t>Traditional method invocation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parameter values supplied at call site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ith AspectJ pointcu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join point provides values for parameter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ith AspectJ advic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pointcuts provide values for parameter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61" name=""/>
          <p:cNvSpPr/>
          <p:nvPr/>
        </p:nvSpPr>
        <p:spPr>
          <a:xfrm>
            <a:off x="3501000" y="3141720"/>
            <a:ext cx="53010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(Line l):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target(l) &amp;&amp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Line.setP2(Point)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Line line) returning: move(line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600" spc="-1" strike="noStrike">
                <a:solidFill>
                  <a:srgbClr val="ffffff"/>
                </a:solidFill>
                <a:latin typeface="Lucida Console"/>
              </a:rPr>
              <a:t>&lt;line is bound to the line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26F8F6-B1EF-4F99-A4D8-1B3AE9B31494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876240" y="167472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good modularit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82" name=""/>
          <p:cNvSpPr/>
          <p:nvPr/>
        </p:nvSpPr>
        <p:spPr>
          <a:xfrm>
            <a:off x="3200400" y="123516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584360" y="389412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URL pattern matching in org.apache.tomca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relevant lines of c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icely fits in two boxes (using inheritanc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668360" y="497664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842A70-BEF1-4B2E-A5AF-101FB41BABB9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arget() primitive pointcu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09120" y="1508040"/>
            <a:ext cx="845820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( </a:t>
            </a:r>
            <a:r>
              <a:rPr b="0" i="1" lang="en-US" sz="2500" spc="-1" strike="noStrike">
                <a:solidFill>
                  <a:srgbClr val="000000"/>
                </a:solidFill>
                <a:latin typeface="Lucida Console"/>
              </a:rPr>
              <a:t>TypeName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 | </a:t>
            </a:r>
            <a:r>
              <a:rPr b="0" i="1" lang="en-US" sz="2500" spc="-1" strike="noStrike">
                <a:solidFill>
                  <a:srgbClr val="000000"/>
                </a:solidFill>
                <a:latin typeface="Lucida Console"/>
              </a:rPr>
              <a:t>FormalReference 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)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does two things: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    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- exposes targe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    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- matches any join point at which target object is an instance of type nam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Point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Line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FigureElement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82F2E1-92D5-47E0-A0C9-F70536C16686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expose values at join poin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66" name=""/>
          <p:cNvSpPr/>
          <p:nvPr/>
        </p:nvSpPr>
        <p:spPr>
          <a:xfrm>
            <a:off x="531360" y="1758960"/>
            <a:ext cx="6901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3300"/>
                </a:solidFill>
                <a:latin typeface="Lucida Console"/>
              </a:rPr>
              <a:t>FigureElement figEl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i="1" lang="en-US" sz="1800" spc="-1" strike="noStrike">
                <a:solidFill>
                  <a:srgbClr val="ff3300"/>
                </a:solidFill>
                <a:latin typeface="Lucida Console"/>
              </a:rPr>
              <a:t>target(figElt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5ABFD9-BD03-4854-B0CB-96E39DC524D0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385560" y="1881360"/>
            <a:ext cx="6901560" cy="3644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igElt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igElt) &amp;&amp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igureElement.moveBy(int, 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ntext &amp; multiple class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3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70" name=""/>
          <p:cNvSpPr/>
          <p:nvPr/>
        </p:nvSpPr>
        <p:spPr>
          <a:xfrm flipH="1">
            <a:off x="3960720" y="7389720"/>
            <a:ext cx="1656000" cy="36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4967280" y="4689360"/>
            <a:ext cx="39607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aking the FigureElement into accou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3672000" y="4797360"/>
            <a:ext cx="1295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111FB8-780C-4C81-8976-B2955FA24D96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So far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pturing our update policy, with and without AspectJ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4C0219-5391-4D9F-A20B-5A78D5E397C9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Original program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77" name=""/>
          <p:cNvSpPr/>
          <p:nvPr/>
        </p:nvSpPr>
        <p:spPr>
          <a:xfrm>
            <a:off x="6073920" y="1017720"/>
            <a:ext cx="285408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3E1F48-8BDE-44C5-97D6-FCA642DDB1AC}" type="slidenum">
              <a:t>44</a:t>
            </a:fld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56275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racking changes in Lin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0" name=""/>
          <p:cNvSpPr/>
          <p:nvPr/>
        </p:nvSpPr>
        <p:spPr>
          <a:xfrm>
            <a:off x="6087960" y="10018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4D138B-5235-45CB-B2D6-F060B886F33F}" type="slidenum">
              <a:t>45</a:t>
            </a:fld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55911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xtending it to also support changes in Poi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3" name=""/>
          <p:cNvSpPr/>
          <p:nvPr/>
        </p:nvSpPr>
        <p:spPr>
          <a:xfrm>
            <a:off x="6087960" y="105264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Display.update()</a:t>
            </a:r>
            <a:r>
              <a:rPr b="0" lang="en-US" sz="1000" spc="-1" strike="noStrike">
                <a:solidFill>
                  <a:srgbClr val="99cc00"/>
                </a:solidFill>
                <a:latin typeface="Lucida Console"/>
              </a:rPr>
              <a:t>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0569C8-3281-4149-B28A-04EC484CA624}" type="slidenum">
              <a:t>46</a:t>
            </a:fld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56275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splayUpdating version 3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Recording which object actually chang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no locus of “display updating”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volution is cumbersom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hanges in all class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have to track &amp; change all caller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6" name=""/>
          <p:cNvSpPr/>
          <p:nvPr/>
        </p:nvSpPr>
        <p:spPr>
          <a:xfrm>
            <a:off x="6122880" y="105264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FD188A-4DC7-4757-8528-481DB30789BB}" type="slidenum">
              <a:t>47</a:t>
            </a:fld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8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2E2FFD-8155-4448-B0E5-6A6206E4C1AB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1" name=""/>
          <p:cNvSpPr/>
          <p:nvPr/>
        </p:nvSpPr>
        <p:spPr>
          <a:xfrm>
            <a:off x="320040" y="4230720"/>
            <a:ext cx="5194440" cy="22251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||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)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returning: move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E4C0D0-4556-40CC-AFB7-79EB6DEE2F09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blems like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86" name=""/>
          <p:cNvSpPr/>
          <p:nvPr/>
        </p:nvSpPr>
        <p:spPr>
          <a:xfrm>
            <a:off x="3327480" y="11714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rcRect l="502" t="4673" r="951" b="39850"/>
          <a:stretch/>
        </p:blipFill>
        <p:spPr>
          <a:xfrm>
            <a:off x="907920" y="1606680"/>
            <a:ext cx="7883640" cy="355104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84360" y="378936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where is logging in org.apache.tomca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lines of code that handle logging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ot in just one pl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ot even in a small number of pla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776360" y="494172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FA8382-CCF1-4BCC-BC02-E413EF9C2303}" type="slidenum">
              <a:t>5</a:t>
            </a:fld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5" name=""/>
          <p:cNvSpPr/>
          <p:nvPr/>
        </p:nvSpPr>
        <p:spPr>
          <a:xfrm>
            <a:off x="319680" y="3592440"/>
            <a:ext cx="5407920" cy="2864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FigureElement.moveBy(int, int) ||</a:t>
            </a: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Point.setX(int))  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Point.setY(int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ACB526-DEEF-42D5-9A85-418C9BA3C673}" type="slidenum">
              <a:t>50</a:t>
            </a:fld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DisplayUpdating version3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lear display updating modu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ll changes in single aspec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volution is modula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9" name=""/>
          <p:cNvSpPr/>
          <p:nvPr/>
        </p:nvSpPr>
        <p:spPr>
          <a:xfrm>
            <a:off x="319680" y="3379680"/>
            <a:ext cx="5407920" cy="3077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igureElement figEl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target(figElt) &amp;&amp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call(void FigureElement.moveBy(int, int) ||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Point.setX(int))  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Point.setY(int)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igureElement 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849456-D11E-4262-BAFD-12DC44F31FE4}" type="slidenum">
              <a:t>51</a:t>
            </a:fld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324000" y="1089000"/>
            <a:ext cx="8640720" cy="536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s </a:t>
            </a:r>
            <a:r>
              <a:rPr b="0" lang="en-US" sz="4400" spc="-1" strike="noStrike" u="sng">
                <a:solidFill>
                  <a:srgbClr val="006699"/>
                </a:solidFill>
                <a:uFillTx/>
                <a:latin typeface="Trebuchet MS"/>
              </a:rPr>
              <a:t>crosscut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 class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3809520" y="1219320"/>
            <a:ext cx="5334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spect modularity cuts across class modular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04" name=""/>
          <p:cNvSpPr/>
          <p:nvPr/>
        </p:nvSpPr>
        <p:spPr>
          <a:xfrm>
            <a:off x="646200" y="5354640"/>
            <a:ext cx="6948360" cy="799920"/>
          </a:xfrm>
          <a:prstGeom prst="rect">
            <a:avLst/>
          </a:prstGeom>
          <a:noFill/>
          <a:ln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749160" y="138420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Displa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2577960" y="2322360"/>
            <a:ext cx="91440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209760" y="2039760"/>
            <a:ext cx="2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 flipH="1">
            <a:off x="2567160" y="46782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2620800" y="428148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10" name=""/>
          <p:cNvCxnSpPr/>
          <p:nvPr/>
        </p:nvCxnSpPr>
        <p:spPr>
          <a:xfrm flipV="1">
            <a:off x="1652400" y="3832920"/>
            <a:ext cx="1080" cy="30564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1" name=""/>
          <p:cNvCxnSpPr>
            <a:stCxn id="512" idx="0"/>
          </p:cNvCxnSpPr>
          <p:nvPr/>
        </p:nvCxnSpPr>
        <p:spPr>
          <a:xfrm flipV="1">
            <a:off x="4395600" y="3832920"/>
            <a:ext cx="1080" cy="30420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3" name=""/>
          <p:cNvCxnSpPr/>
          <p:nvPr/>
        </p:nvCxnSpPr>
        <p:spPr>
          <a:xfrm>
            <a:off x="1652760" y="3833280"/>
            <a:ext cx="2743920" cy="108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4" name=""/>
          <p:cNvCxnSpPr/>
          <p:nvPr/>
        </p:nvCxnSpPr>
        <p:spPr>
          <a:xfrm flipV="1">
            <a:off x="4395600" y="3379320"/>
            <a:ext cx="1080" cy="45792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515" name=""/>
          <p:cNvSpPr/>
          <p:nvPr/>
        </p:nvSpPr>
        <p:spPr>
          <a:xfrm>
            <a:off x="738360" y="4149720"/>
            <a:ext cx="1828800" cy="447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738360" y="4748040"/>
            <a:ext cx="1828800" cy="1462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X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Y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X(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Y(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738360" y="4595760"/>
            <a:ext cx="1828800" cy="15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3481560" y="4149720"/>
            <a:ext cx="1828800" cy="447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3481560" y="4748040"/>
            <a:ext cx="1828800" cy="1462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P1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P2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P1(Po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P2(Po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3481560" y="4595760"/>
            <a:ext cx="1828800" cy="15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749160" y="210492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ig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749160" y="2550960"/>
            <a:ext cx="1828800" cy="917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kePoint(..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keLine(.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749160" y="2548080"/>
            <a:ext cx="1828800" cy="142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3492360" y="210492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FigureEl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4330800" y="3238560"/>
            <a:ext cx="152280" cy="15228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3492360" y="2549520"/>
            <a:ext cx="1828800" cy="6890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3492360" y="2544840"/>
            <a:ext cx="1828800" cy="142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B54835-19B6-4326-A6EA-9048A780C92B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i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09480" y="116064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dditional action to take at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befor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before proceeding at join point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 return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after a join point completes normally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 throw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en a join point completes abnormally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en a join point completes (either normally or abnormally)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on arrival at join point gets explicit control over when &amp; if program proceed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06BB6F-D975-4AEF-B728-3516086BB672}" type="slidenum">
              <a:t>53</a:t>
            </a:fld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95000" y="334800"/>
            <a:ext cx="8458200" cy="7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ntract check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47640" y="141300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What can you use these advice kinds for?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pre-condi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heck whether parameter is vali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post-condi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heck whether values were se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condition enforcemen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force parameters to be vali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042A80-62FB-4B1D-8EEA-714D90D51E65}" type="slidenum">
              <a:t>54</a:t>
            </a:fld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e-condition: before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2" name=""/>
          <p:cNvSpPr/>
          <p:nvPr/>
        </p:nvSpPr>
        <p:spPr>
          <a:xfrm>
            <a:off x="395280" y="1197000"/>
            <a:ext cx="81723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PreCondition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,lo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X, ..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 &gt;= MIN_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 &lt;= MAX_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 &gt;= MIN_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 &lt;= MAX_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FA2C43-47DD-4741-8114-DF91DD254C5A}" type="slidenum">
              <a:t>55</a:t>
            </a:fld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st-condition: after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4" name=""/>
          <p:cNvSpPr/>
          <p:nvPr/>
        </p:nvSpPr>
        <p:spPr>
          <a:xfrm>
            <a:off x="427680" y="1305000"/>
            <a:ext cx="8547480" cy="3385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PostCondition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Point p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returni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target(p) &amp;&amp; args(new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.getX() == new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Point p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returni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target(p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.getY() == new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D4BB51-2DC4-44E9-B5E3-412FE13C30E0}" type="slidenum">
              <a:t>56</a:t>
            </a:fld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/>
          <p:nvPr/>
        </p:nvSpPr>
        <p:spPr>
          <a:xfrm>
            <a:off x="358920" y="1711440"/>
            <a:ext cx="7850160" cy="4483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roceed( clip(newX, MIN_X, MAX_X)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roceed( clip(newY, MIN_Y, MAX_Y)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 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clip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val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in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a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ath.max(min, Math.min(max, val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1033560" y="4491000"/>
            <a:ext cx="9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1033560" y="3122640"/>
            <a:ext cx="9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99"/>
                </a:solidFill>
                <a:latin typeface="Trebuchet MS"/>
              </a:rPr>
              <a:t>condition enforcement: around advice</a:t>
            </a:r>
            <a:endParaRPr b="0" lang="en-US" sz="38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4BFC5C-1EE2-40FA-92EB-028574BC9548}" type="slidenum">
              <a:t>57</a:t>
            </a:fld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pecial method: proceed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09120" y="1368360"/>
            <a:ext cx="8077320" cy="52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or each around advice with the signatu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returnType </a:t>
            </a:r>
            <a:r>
              <a:rPr b="1" lang="en-GB" sz="2400" spc="-1" strike="noStrike">
                <a:solidFill>
                  <a:srgbClr val="0033cc"/>
                </a:solidFill>
                <a:latin typeface="Lucida Console"/>
              </a:rPr>
              <a:t>around</a:t>
            </a: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(T1 arg1, T2 arg2, …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here is a special method with the signatu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returnType </a:t>
            </a:r>
            <a:r>
              <a:rPr b="1" lang="en-GB" sz="2400" spc="-1" strike="noStrike">
                <a:solidFill>
                  <a:srgbClr val="0033cc"/>
                </a:solidFill>
                <a:latin typeface="Lucida Console"/>
              </a:rPr>
              <a:t>proceed</a:t>
            </a: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(T1, T2, …)</a:t>
            </a:r>
            <a:br>
              <a:rPr sz="2400"/>
            </a:b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vailable only in around advi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means </a:t>
            </a:r>
            <a:r>
              <a:rPr b="0" i="1" lang="en-GB" sz="2800" spc="-1" strike="noStrike">
                <a:solidFill>
                  <a:srgbClr val="646464"/>
                </a:solidFill>
                <a:latin typeface="Trebuchet MS"/>
              </a:rPr>
              <a:t>“run what would have run if this around advice had not been defined”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6C6847-FEB9-4191-BDD0-15D18DFB9EA3}" type="slidenum">
              <a:t>58</a:t>
            </a:fld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/>
          <p:nvPr/>
        </p:nvSpPr>
        <p:spPr>
          <a:xfrm>
            <a:off x="820080" y="1376280"/>
            <a:ext cx="7313040" cy="39344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Cach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yLookupTable cache = new MyLookupTabl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x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, 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x, 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ret = cache.lookup(x, y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if (ret ==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ul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ret = proceed(x, y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che.add(x, y, ret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re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2843280" y="3897360"/>
            <a:ext cx="94608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extra: caching with around advice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7DC4D2-DDA4-41A2-98DE-9D49F52B5FD0}" type="slidenum">
              <a:t>59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the problem of crosscutting concern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itical aspects of large systems don’t fit in traditional module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ogging, error handl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ynchroniz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ecurit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memory managemen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erformance optimiz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5191200" y="2457360"/>
            <a:ext cx="3809520" cy="2608200"/>
            <a:chOff x="5191200" y="2457360"/>
            <a:chExt cx="3809520" cy="2608200"/>
          </a:xfrm>
        </p:grpSpPr>
        <p:pic>
          <p:nvPicPr>
            <p:cNvPr id="193" name="" descr=""/>
            <p:cNvPicPr/>
            <p:nvPr/>
          </p:nvPicPr>
          <p:blipFill>
            <a:blip r:embed="rId2"/>
            <a:srcRect l="502" t="4673" r="951" b="39850"/>
            <a:stretch/>
          </p:blipFill>
          <p:spPr>
            <a:xfrm>
              <a:off x="5191200" y="2457360"/>
              <a:ext cx="3751200" cy="260820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  <p:sp>
          <p:nvSpPr>
            <p:cNvPr id="194" name=""/>
            <p:cNvSpPr/>
            <p:nvPr/>
          </p:nvSpPr>
          <p:spPr>
            <a:xfrm>
              <a:off x="5343480" y="4609800"/>
              <a:ext cx="365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logging, security, optimization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31E73E-FFD2-4EE1-AF1E-D6BC2EA3C629}" type="slidenum">
              <a:t>6</a:t>
            </a:fld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07600" y="151920"/>
            <a:ext cx="76201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perty-based 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755280" y="36450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rosscuts of methods with a common property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ublic/private, return a certain value, in a particular packag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logging, debugging, profiling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log on entry to every </a:t>
            </a:r>
            <a:r>
              <a:rPr b="1" i="1" lang="en-US" sz="2000" spc="-1" strike="noStrike">
                <a:solidFill>
                  <a:srgbClr val="646464"/>
                </a:solidFill>
                <a:latin typeface="Trebuchet MS"/>
              </a:rPr>
              <a:t>public</a:t>
            </a: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 metho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46" name=""/>
          <p:cNvSpPr/>
          <p:nvPr/>
        </p:nvSpPr>
        <p:spPr>
          <a:xfrm>
            <a:off x="539640" y="1484280"/>
            <a:ext cx="3200400" cy="203760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prin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1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foo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240000" y="981000"/>
            <a:ext cx="3256200" cy="252036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scan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2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frotz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bar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5724360" y="1341360"/>
            <a:ext cx="3200400" cy="179604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cop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3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String s1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3ABB9E-F446-46ED-8880-0839A0B6F6B4}" type="slidenum">
              <a:t>60</a:t>
            </a:fld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perty-based 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24000" y="4833720"/>
            <a:ext cx="8712000" cy="161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nsider code maintenan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other programmer adds a public method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i.e. extends public interface – this code will still work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other programmer reads this cod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at’s really going on” is explicit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51" name=""/>
          <p:cNvSpPr/>
          <p:nvPr/>
        </p:nvSpPr>
        <p:spPr>
          <a:xfrm>
            <a:off x="534600" y="148284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ger log = Logger.globa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Interfac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* com.bigboxco..*.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() throwing (Error e): publicInterfac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.warning(e);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neatly captures public interface of my packa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F6C00E-C9F1-4DC5-9BB4-2148F170FFF1}" type="slidenum">
              <a:t>61</a:t>
            </a:fld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ldcarding in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5" name=""/>
          <p:cNvSpPr/>
          <p:nvPr/>
        </p:nvSpPr>
        <p:spPr>
          <a:xfrm>
            <a:off x="431640" y="1052640"/>
            <a:ext cx="8521560" cy="43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Po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geom.Po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geom.*)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type in graphics.ge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.*)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type in any sub-package of graphic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X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* Point.*(..))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public method on 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* *(..))  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public method on any typ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X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Y(*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*(*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set*(*))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set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Point.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, 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(..))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construc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5347440" y="3430440"/>
            <a:ext cx="28602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*” is wild c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..” is multi-part wild c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9B835F-2BC1-4EC0-8E9D-593C4F47F2B3}" type="slidenum">
              <a:t>62</a:t>
            </a:fld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pecial value: thisJoinPoi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84280" y="1596600"/>
            <a:ext cx="7772400" cy="35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Reflective access to the join point from advic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Methods like: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Signature  getSignature(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Object[]   getArgs(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Related ‘thisJoinPointStaticPart’ provides only statically determinable por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46464"/>
                </a:solidFill>
                <a:latin typeface="Trebuchet MS"/>
              </a:rPr>
              <a:t>better perform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3C8622-1CE9-4549-8B33-7230A3118C1F}" type="slidenum">
              <a:t>63</a:t>
            </a:fld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ing thisJoinPoi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0" name=""/>
          <p:cNvSpPr/>
          <p:nvPr/>
        </p:nvSpPr>
        <p:spPr>
          <a:xfrm>
            <a:off x="319680" y="1125360"/>
            <a:ext cx="8547480" cy="3842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ger log = Logger.globa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Interfac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* com.bigboxco..*.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() throwing (Error e): publicInterfac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.throwing(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thisJoinPoint.getSignature().getDeclaringType().getName(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thisJoinPoint.getSignature().getName(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e)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3959280" y="4184640"/>
            <a:ext cx="4892760" cy="1008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cc"/>
                </a:solidFill>
                <a:latin typeface="Trebuchet MS"/>
              </a:rPr>
              <a:t>using thisJoinPoint makes it possible for the advice to recover information about where it is runn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7BB4FA-7C02-4B12-9D6C-314BEB02B134}" type="slidenum">
              <a:t>64</a:t>
            </a:fld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ther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39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y join point at which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object is an instance of type na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code is contained within type na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code is specified methods or constructo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field reference or assignment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64" name=""/>
          <p:cNvSpPr/>
          <p:nvPr/>
        </p:nvSpPr>
        <p:spPr>
          <a:xfrm>
            <a:off x="1440000" y="1197000"/>
            <a:ext cx="8381880" cy="38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this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TypeNam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within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TypeNam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withincode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MemberSignatur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get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FieldSignature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set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FieldSignatur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D934EA-EE26-44E7-8A41-D958FE5EF5CE}" type="slidenum">
              <a:t>65</a:t>
            </a:fld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nsure that creation of figure elements is done through the factory method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67" name=""/>
          <p:cNvSpPr/>
          <p:nvPr/>
        </p:nvSpPr>
        <p:spPr>
          <a:xfrm>
            <a:off x="503280" y="2997360"/>
            <a:ext cx="8209080" cy="1739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igur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ublic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  makeLine(Line p1, Line p2) {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new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.. 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ublic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makePoint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x,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int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y)    {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new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...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05ABE3-6758-4033-8BA5-EC2DF7080821}" type="slidenum">
              <a:t>66</a:t>
            </a:fld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asy to police with a run time error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but can we do better?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0" name=""/>
          <p:cNvSpPr/>
          <p:nvPr/>
        </p:nvSpPr>
        <p:spPr>
          <a:xfrm>
            <a:off x="468360" y="2565360"/>
            <a:ext cx="810576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|| call(Line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: illegalNewFigElt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hrow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Error("Use factory method instead."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A0E91B-8638-4092-87AF-E8E71C769903}" type="slidenum">
              <a:t>67</a:t>
            </a:fld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233000"/>
            <a:ext cx="8229600" cy="43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report as a compile time error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‘declare warning/error’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Must be a statically resolvable pointcu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3" name=""/>
          <p:cNvSpPr/>
          <p:nvPr/>
        </p:nvSpPr>
        <p:spPr>
          <a:xfrm>
            <a:off x="1141920" y="2276640"/>
            <a:ext cx="676440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|| call(Line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error: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factory method instead.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 flipH="1" flipV="1">
            <a:off x="6227280" y="3933720"/>
            <a:ext cx="129708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0D6202-186A-44E5-B04C-FABC829E8191}" type="slidenum">
              <a:t>68</a:t>
            </a:fld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More generally applicabl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policing all figure eleme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7" name=""/>
          <p:cNvSpPr/>
          <p:nvPr/>
        </p:nvSpPr>
        <p:spPr>
          <a:xfrm>
            <a:off x="1677600" y="2529000"/>
            <a:ext cx="552996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FigureElement+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error: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factory method instead.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7245360" y="2492280"/>
            <a:ext cx="1719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‘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+’ means this type and all subtyp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 flipH="1">
            <a:off x="6192360" y="2781360"/>
            <a:ext cx="129564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58CDFD-8783-4DE0-88DF-1120797B0F92}" type="slidenum">
              <a:t>69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the problem of crosscutting concern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4"/>
                </a:solidFill>
                <a:latin typeface="Trebuchet MS"/>
              </a:rPr>
              <a:t>tangled code has a cost</a:t>
            </a:r>
            <a:endParaRPr b="0" lang="en-US" sz="36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fficult to understan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fficult to chan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increases with size of system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aintenance costs are hu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A3EA21-E910-49B0-B216-9833C791822F}" type="slidenum">
              <a:t>7</a:t>
            </a:fld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‘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Local enforcement’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82" name=""/>
          <p:cNvSpPr/>
          <p:nvPr/>
        </p:nvSpPr>
        <p:spPr>
          <a:xfrm>
            <a:off x="287280" y="1952640"/>
            <a:ext cx="8640720" cy="4483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1 =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2 =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static 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ter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error: set(Point Line.*) &amp;&amp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!withincode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*(Point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setter method, even inside Line class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7534D9-425E-405B-B83C-7C4EBBFEE507}" type="slidenum">
              <a:t>70</a:t>
            </a:fld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more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ethod/constructor execution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execu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void Point.setX(int)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object initialization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initializa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.new(int)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class initialization join points (as the class is loaded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staticinitializa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8B6BD6-2318-463A-908B-459324AA99B3}" type="slidenum">
              <a:t>71</a:t>
            </a:fld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s: call and execu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6" name=""/>
          <p:cNvSpPr/>
          <p:nvPr/>
        </p:nvSpPr>
        <p:spPr>
          <a:xfrm>
            <a:off x="6948360" y="4329000"/>
            <a:ext cx="2016360" cy="80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7020000" y="440064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7020000" y="479736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7201080" y="4365720"/>
            <a:ext cx="183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execu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7201080" y="476100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ca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051000" y="21798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2467080" y="1771560"/>
            <a:ext cx="0" cy="35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2087640" y="1484280"/>
            <a:ext cx="75708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2343240" y="2057400"/>
            <a:ext cx="245880" cy="297972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979720"/>
              <a:gd name="textAreaBottom" fmla="*/ 2967840 h 2979720"/>
            </a:gdLst>
            <a:ahLst/>
            <a:rect l="textAreaLeft" t="textAreaTop" r="textAreaRight" b="textAreaBottom"/>
            <a:pathLst>
              <a:path w="21600" h="261411">
                <a:moveTo>
                  <a:pt x="3600" y="0"/>
                </a:moveTo>
                <a:arcTo wR="3600" hR="3600" stAng="16200000" swAng="-5400000"/>
                <a:lnTo>
                  <a:pt x="0" y="257811"/>
                </a:lnTo>
                <a:arcTo wR="3600" hR="3600" stAng="10800000" swAng="-5400000"/>
                <a:lnTo>
                  <a:pt x="18000" y="2614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2343240" y="2400480"/>
            <a:ext cx="245880" cy="22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4716360" y="177336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4211640" y="1484280"/>
            <a:ext cx="100800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2465280" y="2573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2465280" y="3662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4592520" y="2633760"/>
            <a:ext cx="246240" cy="687240"/>
          </a:xfrm>
          <a:custGeom>
            <a:avLst/>
            <a:gdLst>
              <a:gd name="textAreaLeft" fmla="*/ 11880 w 246240"/>
              <a:gd name="textAreaRight" fmla="*/ 234360 w 24624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228">
                <a:moveTo>
                  <a:pt x="3600" y="0"/>
                </a:moveTo>
                <a:arcTo wR="3600" hR="3600" stAng="16200000" swAng="-5400000"/>
                <a:lnTo>
                  <a:pt x="0" y="56628"/>
                </a:lnTo>
                <a:arcTo wR="3600" hR="3600" stAng="10800000" swAng="-5400000"/>
                <a:lnTo>
                  <a:pt x="18000" y="602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592520" y="2747880"/>
            <a:ext cx="24624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6302520" y="176544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5797440" y="1479600"/>
            <a:ext cx="100656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6178680" y="3714840"/>
            <a:ext cx="245880" cy="68724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316">
                <a:moveTo>
                  <a:pt x="3600" y="0"/>
                </a:moveTo>
                <a:arcTo wR="3600" hR="3600" stAng="16200000" swAng="-5400000"/>
                <a:lnTo>
                  <a:pt x="0" y="56716"/>
                </a:lnTo>
                <a:arcTo wR="3600" hR="3600" stAng="10800000" swAng="-5400000"/>
                <a:lnTo>
                  <a:pt x="18000" y="603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6178680" y="3828960"/>
            <a:ext cx="24588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2592360" y="2637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2592360" y="371628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 flipH="1">
            <a:off x="2592000" y="440064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 flipH="1">
            <a:off x="2592360" y="3321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1139760" y="2052720"/>
            <a:ext cx="1308240" cy="7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1139760" y="5032440"/>
            <a:ext cx="1308240" cy="172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142920" y="1341360"/>
            <a:ext cx="190800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magi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l.moveBy(2,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2916360" y="234936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1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4695840" y="3429000"/>
            <a:ext cx="210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2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7056360" y="39337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Join poi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21EAC9-07FE-44A6-8A5B-0E4B1421F341}" type="slidenum">
              <a:t>72</a:t>
            </a:fld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ther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44751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cflow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cu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ll join points in the dynamic control flow of any join point picked out by the specified pointcut”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cflowbelow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cu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ll join points in the dynamic control flow below any join point picked out by the specified pointcut”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grpSp>
        <p:nvGrpSpPr>
          <p:cNvPr id="618" name=""/>
          <p:cNvGrpSpPr/>
          <p:nvPr/>
        </p:nvGrpSpPr>
        <p:grpSpPr>
          <a:xfrm>
            <a:off x="4716000" y="3465360"/>
            <a:ext cx="3657960" cy="1884240"/>
            <a:chOff x="4716000" y="3465360"/>
            <a:chExt cx="3657960" cy="1884240"/>
          </a:xfrm>
        </p:grpSpPr>
        <p:sp>
          <p:nvSpPr>
            <p:cNvPr id="619" name=""/>
            <p:cNvSpPr/>
            <p:nvPr/>
          </p:nvSpPr>
          <p:spPr>
            <a:xfrm flipH="1">
              <a:off x="5034960" y="457812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 flipH="1">
              <a:off x="4982400" y="463068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 flipH="1">
              <a:off x="4925880" y="4690800"/>
              <a:ext cx="38448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 flipH="1">
              <a:off x="4715640" y="4033800"/>
              <a:ext cx="82260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 flipH="1">
              <a:off x="7870680" y="401004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 flipH="1">
              <a:off x="7817760" y="40622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 flipH="1">
              <a:off x="7760520" y="4122720"/>
              <a:ext cx="384120" cy="950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 flipH="1">
              <a:off x="7551720" y="346536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 flipH="1">
              <a:off x="6031800" y="43718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 flipH="1">
              <a:off x="5979960" y="4424040"/>
              <a:ext cx="384480" cy="9396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 flipH="1">
              <a:off x="5922360" y="448452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 flipH="1">
              <a:off x="5713560" y="382716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140440" y="4190760"/>
              <a:ext cx="934920" cy="532080"/>
            </a:xfrm>
            <a:custGeom>
              <a:avLst/>
              <a:gdLst/>
              <a:ahLst/>
              <a:rect l="l" t="t" r="r" b="b"/>
              <a:pathLst>
                <a:path w="1185" h="651">
                  <a:moveTo>
                    <a:pt x="0" y="651"/>
                  </a:moveTo>
                  <a:lnTo>
                    <a:pt x="762" y="0"/>
                  </a:lnTo>
                  <a:lnTo>
                    <a:pt x="1185" y="417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173560" y="4251240"/>
              <a:ext cx="863640" cy="503280"/>
            </a:xfrm>
            <a:custGeom>
              <a:avLst/>
              <a:gdLst/>
              <a:ahLst/>
              <a:rect l="l" t="t" r="r" b="b"/>
              <a:pathLst>
                <a:path w="1093" h="617">
                  <a:moveTo>
                    <a:pt x="0" y="617"/>
                  </a:moveTo>
                  <a:lnTo>
                    <a:pt x="712" y="0"/>
                  </a:lnTo>
                  <a:lnTo>
                    <a:pt x="1093" y="35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6110280" y="3759120"/>
              <a:ext cx="1247760" cy="795240"/>
            </a:xfrm>
            <a:custGeom>
              <a:avLst/>
              <a:gdLst/>
              <a:ahLst/>
              <a:rect l="l" t="t" r="r" b="b"/>
              <a:pathLst>
                <a:path w="1528" h="974">
                  <a:moveTo>
                    <a:pt x="0" y="974"/>
                  </a:moveTo>
                  <a:lnTo>
                    <a:pt x="441" y="401"/>
                  </a:lnTo>
                  <a:lnTo>
                    <a:pt x="152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319880" y="3625560"/>
              <a:ext cx="695520" cy="547920"/>
            </a:xfrm>
            <a:custGeom>
              <a:avLst/>
              <a:gdLst/>
              <a:ahLst/>
              <a:rect l="l" t="t" r="r" b="b"/>
              <a:pathLst>
                <a:path w="881" h="669">
                  <a:moveTo>
                    <a:pt x="0" y="174"/>
                  </a:moveTo>
                  <a:lnTo>
                    <a:pt x="406" y="0"/>
                  </a:lnTo>
                  <a:lnTo>
                    <a:pt x="881" y="66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7605720" y="3671640"/>
              <a:ext cx="368280" cy="520920"/>
            </a:xfrm>
            <a:custGeom>
              <a:avLst/>
              <a:gdLst/>
              <a:ahLst/>
              <a:rect l="l" t="t" r="r" b="b"/>
              <a:pathLst>
                <a:path w="467" h="638">
                  <a:moveTo>
                    <a:pt x="0" y="0"/>
                  </a:moveTo>
                  <a:lnTo>
                    <a:pt x="467" y="638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6183360" y="3686040"/>
              <a:ext cx="1457280" cy="830160"/>
            </a:xfrm>
            <a:custGeom>
              <a:avLst/>
              <a:gdLst/>
              <a:ahLst/>
              <a:rect l="l" t="t" r="r" b="b"/>
              <a:pathLst>
                <a:path w="1798" h="1062">
                  <a:moveTo>
                    <a:pt x="0" y="1062"/>
                  </a:moveTo>
                  <a:lnTo>
                    <a:pt x="375" y="552"/>
                  </a:lnTo>
                  <a:lnTo>
                    <a:pt x="179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6219720" y="4254480"/>
              <a:ext cx="1011240" cy="338040"/>
            </a:xfrm>
            <a:custGeom>
              <a:avLst/>
              <a:gdLst/>
              <a:ahLst/>
              <a:rect l="l" t="t" r="r" b="b"/>
              <a:pathLst>
                <a:path w="1216" h="402">
                  <a:moveTo>
                    <a:pt x="0" y="335"/>
                  </a:moveTo>
                  <a:lnTo>
                    <a:pt x="322" y="0"/>
                  </a:lnTo>
                  <a:lnTo>
                    <a:pt x="1216" y="40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 flipH="1">
              <a:off x="7870680" y="504324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 flipH="1">
              <a:off x="7817760" y="50958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 flipH="1">
              <a:off x="7760520" y="515592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 flipH="1">
              <a:off x="7551720" y="4498920"/>
              <a:ext cx="82224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7156440" y="4537080"/>
              <a:ext cx="762120" cy="652320"/>
            </a:xfrm>
            <a:custGeom>
              <a:avLst/>
              <a:gdLst/>
              <a:ahLst/>
              <a:rect l="l" t="t" r="r" b="b"/>
              <a:pathLst>
                <a:path w="965" h="799">
                  <a:moveTo>
                    <a:pt x="0" y="0"/>
                  </a:moveTo>
                  <a:lnTo>
                    <a:pt x="552" y="269"/>
                  </a:lnTo>
                  <a:lnTo>
                    <a:pt x="965" y="79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6261120" y="4282920"/>
              <a:ext cx="1630440" cy="911160"/>
            </a:xfrm>
            <a:custGeom>
              <a:avLst/>
              <a:gdLst/>
              <a:ahLst/>
              <a:rect l="l" t="t" r="r" b="b"/>
              <a:pathLst>
                <a:path w="2064" h="1116">
                  <a:moveTo>
                    <a:pt x="0" y="294"/>
                  </a:moveTo>
                  <a:lnTo>
                    <a:pt x="288" y="0"/>
                  </a:lnTo>
                  <a:lnTo>
                    <a:pt x="1697" y="642"/>
                  </a:lnTo>
                  <a:lnTo>
                    <a:pt x="2064" y="111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 flipH="1" rot="5358600">
              <a:off x="7922160" y="4083120"/>
              <a:ext cx="36360" cy="860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 rot="5358600">
              <a:off x="5153400" y="4687200"/>
              <a:ext cx="363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 rot="5358600">
              <a:off x="6138360" y="4483800"/>
              <a:ext cx="36720" cy="856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 rot="5358600">
              <a:off x="6241680" y="4488480"/>
              <a:ext cx="381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 flipH="1" rot="5358600">
              <a:off x="7820280" y="5132880"/>
              <a:ext cx="381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 flipH="1" rot="5358600">
              <a:off x="5949720" y="4451040"/>
              <a:ext cx="363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50" name=""/>
          <p:cNvGrpSpPr/>
          <p:nvPr/>
        </p:nvGrpSpPr>
        <p:grpSpPr>
          <a:xfrm>
            <a:off x="4738320" y="1285920"/>
            <a:ext cx="3657960" cy="1884240"/>
            <a:chOff x="4738320" y="1285920"/>
            <a:chExt cx="3657960" cy="1884240"/>
          </a:xfrm>
        </p:grpSpPr>
        <p:sp>
          <p:nvSpPr>
            <p:cNvPr id="651" name=""/>
            <p:cNvSpPr/>
            <p:nvPr/>
          </p:nvSpPr>
          <p:spPr>
            <a:xfrm flipH="1">
              <a:off x="5057280" y="239868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5004720" y="24512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4948200" y="2511360"/>
              <a:ext cx="38448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 flipH="1">
              <a:off x="4737960" y="1854360"/>
              <a:ext cx="82260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 flipH="1">
              <a:off x="7893000" y="183060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 flipH="1">
              <a:off x="7840080" y="18828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 flipH="1">
              <a:off x="7782840" y="1943280"/>
              <a:ext cx="384120" cy="950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574040" y="128592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6054120" y="21924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6002280" y="2244600"/>
              <a:ext cx="384480" cy="9396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 flipH="1">
              <a:off x="5944680" y="230508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 flipH="1">
              <a:off x="5735880" y="164772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162760" y="2011320"/>
              <a:ext cx="934920" cy="532080"/>
            </a:xfrm>
            <a:custGeom>
              <a:avLst/>
              <a:gdLst/>
              <a:ahLst/>
              <a:rect l="l" t="t" r="r" b="b"/>
              <a:pathLst>
                <a:path w="1185" h="651">
                  <a:moveTo>
                    <a:pt x="0" y="651"/>
                  </a:moveTo>
                  <a:lnTo>
                    <a:pt x="762" y="0"/>
                  </a:lnTo>
                  <a:lnTo>
                    <a:pt x="1185" y="417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195880" y="2071800"/>
              <a:ext cx="863640" cy="503280"/>
            </a:xfrm>
            <a:custGeom>
              <a:avLst/>
              <a:gdLst/>
              <a:ahLst/>
              <a:rect l="l" t="t" r="r" b="b"/>
              <a:pathLst>
                <a:path w="1093" h="617">
                  <a:moveTo>
                    <a:pt x="0" y="617"/>
                  </a:moveTo>
                  <a:lnTo>
                    <a:pt x="712" y="0"/>
                  </a:lnTo>
                  <a:lnTo>
                    <a:pt x="1093" y="35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132600" y="1579680"/>
              <a:ext cx="1247760" cy="795240"/>
            </a:xfrm>
            <a:custGeom>
              <a:avLst/>
              <a:gdLst/>
              <a:ahLst/>
              <a:rect l="l" t="t" r="r" b="b"/>
              <a:pathLst>
                <a:path w="1528" h="974">
                  <a:moveTo>
                    <a:pt x="0" y="974"/>
                  </a:moveTo>
                  <a:lnTo>
                    <a:pt x="441" y="401"/>
                  </a:lnTo>
                  <a:lnTo>
                    <a:pt x="152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7342200" y="1446120"/>
              <a:ext cx="695520" cy="547920"/>
            </a:xfrm>
            <a:custGeom>
              <a:avLst/>
              <a:gdLst/>
              <a:ahLst/>
              <a:rect l="l" t="t" r="r" b="b"/>
              <a:pathLst>
                <a:path w="881" h="669">
                  <a:moveTo>
                    <a:pt x="0" y="174"/>
                  </a:moveTo>
                  <a:lnTo>
                    <a:pt x="406" y="0"/>
                  </a:lnTo>
                  <a:lnTo>
                    <a:pt x="881" y="66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628040" y="1492200"/>
              <a:ext cx="368280" cy="520920"/>
            </a:xfrm>
            <a:custGeom>
              <a:avLst/>
              <a:gdLst/>
              <a:ahLst/>
              <a:rect l="l" t="t" r="r" b="b"/>
              <a:pathLst>
                <a:path w="467" h="638">
                  <a:moveTo>
                    <a:pt x="0" y="0"/>
                  </a:moveTo>
                  <a:lnTo>
                    <a:pt x="467" y="638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6205680" y="1506600"/>
              <a:ext cx="1457280" cy="830160"/>
            </a:xfrm>
            <a:custGeom>
              <a:avLst/>
              <a:gdLst/>
              <a:ahLst/>
              <a:rect l="l" t="t" r="r" b="b"/>
              <a:pathLst>
                <a:path w="1798" h="1062">
                  <a:moveTo>
                    <a:pt x="0" y="1062"/>
                  </a:moveTo>
                  <a:lnTo>
                    <a:pt x="375" y="552"/>
                  </a:lnTo>
                  <a:lnTo>
                    <a:pt x="179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6242040" y="2075040"/>
              <a:ext cx="1011240" cy="338040"/>
            </a:xfrm>
            <a:custGeom>
              <a:avLst/>
              <a:gdLst/>
              <a:ahLst/>
              <a:rect l="l" t="t" r="r" b="b"/>
              <a:pathLst>
                <a:path w="1216" h="402">
                  <a:moveTo>
                    <a:pt x="0" y="335"/>
                  </a:moveTo>
                  <a:lnTo>
                    <a:pt x="322" y="0"/>
                  </a:lnTo>
                  <a:lnTo>
                    <a:pt x="1216" y="40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 flipH="1">
              <a:off x="7893000" y="286380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 flipH="1">
              <a:off x="7840080" y="291636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 flipH="1">
              <a:off x="7782840" y="297648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 flipH="1">
              <a:off x="7574040" y="2319480"/>
              <a:ext cx="82224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178760" y="2357640"/>
              <a:ext cx="762120" cy="652320"/>
            </a:xfrm>
            <a:custGeom>
              <a:avLst/>
              <a:gdLst/>
              <a:ahLst/>
              <a:rect l="l" t="t" r="r" b="b"/>
              <a:pathLst>
                <a:path w="965" h="799">
                  <a:moveTo>
                    <a:pt x="0" y="0"/>
                  </a:moveTo>
                  <a:lnTo>
                    <a:pt x="552" y="269"/>
                  </a:lnTo>
                  <a:lnTo>
                    <a:pt x="965" y="79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6283440" y="2103480"/>
              <a:ext cx="1630440" cy="911160"/>
            </a:xfrm>
            <a:custGeom>
              <a:avLst/>
              <a:gdLst/>
              <a:ahLst/>
              <a:rect l="l" t="t" r="r" b="b"/>
              <a:pathLst>
                <a:path w="2064" h="1116">
                  <a:moveTo>
                    <a:pt x="0" y="294"/>
                  </a:moveTo>
                  <a:lnTo>
                    <a:pt x="288" y="0"/>
                  </a:lnTo>
                  <a:lnTo>
                    <a:pt x="1697" y="642"/>
                  </a:lnTo>
                  <a:lnTo>
                    <a:pt x="2064" y="111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 flipH="1" rot="5358600">
              <a:off x="7944480" y="1903680"/>
              <a:ext cx="36360" cy="860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 flipH="1" rot="5358600">
              <a:off x="5175720" y="2507760"/>
              <a:ext cx="363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 flipH="1" rot="5358600">
              <a:off x="6160680" y="2304360"/>
              <a:ext cx="36720" cy="856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 flipH="1" rot="5358600">
              <a:off x="6264000" y="2309040"/>
              <a:ext cx="381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 flipH="1" rot="5358600">
              <a:off x="7842600" y="2953440"/>
              <a:ext cx="381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 flipH="1" rot="5358600">
              <a:off x="5972040" y="2271600"/>
              <a:ext cx="363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82" name=""/>
          <p:cNvSpPr/>
          <p:nvPr/>
        </p:nvSpPr>
        <p:spPr>
          <a:xfrm>
            <a:off x="4967280" y="1197000"/>
            <a:ext cx="3206880" cy="2041560"/>
          </a:xfrm>
          <a:custGeom>
            <a:avLst/>
            <a:gdLst/>
            <a:ahLst/>
            <a:rect l="l" t="t" r="r" b="b"/>
            <a:pathLst>
              <a:path w="2020" h="1286">
                <a:moveTo>
                  <a:pt x="30" y="789"/>
                </a:moveTo>
                <a:cubicBezTo>
                  <a:pt x="60" y="714"/>
                  <a:pt x="163" y="491"/>
                  <a:pt x="278" y="453"/>
                </a:cubicBezTo>
                <a:cubicBezTo>
                  <a:pt x="393" y="415"/>
                  <a:pt x="536" y="616"/>
                  <a:pt x="720" y="560"/>
                </a:cubicBezTo>
                <a:cubicBezTo>
                  <a:pt x="904" y="504"/>
                  <a:pt x="1207" y="196"/>
                  <a:pt x="1382" y="117"/>
                </a:cubicBezTo>
                <a:cubicBezTo>
                  <a:pt x="1557" y="38"/>
                  <a:pt x="1668" y="0"/>
                  <a:pt x="1770" y="87"/>
                </a:cubicBezTo>
                <a:cubicBezTo>
                  <a:pt x="1872" y="174"/>
                  <a:pt x="1964" y="459"/>
                  <a:pt x="1992" y="640"/>
                </a:cubicBezTo>
                <a:cubicBezTo>
                  <a:pt x="2020" y="821"/>
                  <a:pt x="1981" y="1076"/>
                  <a:pt x="1935" y="1171"/>
                </a:cubicBezTo>
                <a:cubicBezTo>
                  <a:pt x="1931" y="1286"/>
                  <a:pt x="1869" y="1209"/>
                  <a:pt x="1833" y="1216"/>
                </a:cubicBezTo>
                <a:cubicBezTo>
                  <a:pt x="1797" y="1223"/>
                  <a:pt x="1807" y="1253"/>
                  <a:pt x="1718" y="1211"/>
                </a:cubicBezTo>
                <a:cubicBezTo>
                  <a:pt x="1281" y="968"/>
                  <a:pt x="1432" y="1037"/>
                  <a:pt x="1296" y="965"/>
                </a:cubicBezTo>
                <a:cubicBezTo>
                  <a:pt x="1188" y="892"/>
                  <a:pt x="1164" y="795"/>
                  <a:pt x="1068" y="771"/>
                </a:cubicBezTo>
                <a:cubicBezTo>
                  <a:pt x="972" y="747"/>
                  <a:pt x="873" y="777"/>
                  <a:pt x="720" y="823"/>
                </a:cubicBezTo>
                <a:cubicBezTo>
                  <a:pt x="567" y="869"/>
                  <a:pt x="339" y="998"/>
                  <a:pt x="236" y="1011"/>
                </a:cubicBezTo>
                <a:cubicBezTo>
                  <a:pt x="133" y="1024"/>
                  <a:pt x="61" y="980"/>
                  <a:pt x="42" y="937"/>
                </a:cubicBezTo>
                <a:cubicBezTo>
                  <a:pt x="22" y="894"/>
                  <a:pt x="0" y="864"/>
                  <a:pt x="30" y="789"/>
                </a:cubicBezTo>
                <a:close/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4944960" y="3300480"/>
            <a:ext cx="3206880" cy="2041560"/>
          </a:xfrm>
          <a:custGeom>
            <a:avLst/>
            <a:gdLst/>
            <a:ahLst/>
            <a:rect l="l" t="t" r="r" b="b"/>
            <a:pathLst>
              <a:path w="2020" h="1286">
                <a:moveTo>
                  <a:pt x="30" y="789"/>
                </a:moveTo>
                <a:cubicBezTo>
                  <a:pt x="60" y="714"/>
                  <a:pt x="163" y="491"/>
                  <a:pt x="278" y="453"/>
                </a:cubicBezTo>
                <a:cubicBezTo>
                  <a:pt x="393" y="415"/>
                  <a:pt x="536" y="616"/>
                  <a:pt x="720" y="560"/>
                </a:cubicBezTo>
                <a:cubicBezTo>
                  <a:pt x="904" y="504"/>
                  <a:pt x="1207" y="196"/>
                  <a:pt x="1382" y="117"/>
                </a:cubicBezTo>
                <a:cubicBezTo>
                  <a:pt x="1557" y="38"/>
                  <a:pt x="1668" y="0"/>
                  <a:pt x="1770" y="87"/>
                </a:cubicBezTo>
                <a:cubicBezTo>
                  <a:pt x="1872" y="174"/>
                  <a:pt x="1964" y="459"/>
                  <a:pt x="1992" y="640"/>
                </a:cubicBezTo>
                <a:cubicBezTo>
                  <a:pt x="2020" y="821"/>
                  <a:pt x="1981" y="1076"/>
                  <a:pt x="1935" y="1171"/>
                </a:cubicBezTo>
                <a:cubicBezTo>
                  <a:pt x="1929" y="1286"/>
                  <a:pt x="1899" y="1247"/>
                  <a:pt x="1863" y="1254"/>
                </a:cubicBezTo>
                <a:cubicBezTo>
                  <a:pt x="1827" y="1261"/>
                  <a:pt x="1812" y="1259"/>
                  <a:pt x="1718" y="1211"/>
                </a:cubicBezTo>
                <a:cubicBezTo>
                  <a:pt x="1281" y="968"/>
                  <a:pt x="1432" y="1037"/>
                  <a:pt x="1296" y="965"/>
                </a:cubicBezTo>
                <a:cubicBezTo>
                  <a:pt x="1188" y="892"/>
                  <a:pt x="1164" y="795"/>
                  <a:pt x="1068" y="771"/>
                </a:cubicBezTo>
                <a:cubicBezTo>
                  <a:pt x="972" y="747"/>
                  <a:pt x="873" y="777"/>
                  <a:pt x="720" y="823"/>
                </a:cubicBezTo>
                <a:cubicBezTo>
                  <a:pt x="567" y="869"/>
                  <a:pt x="339" y="998"/>
                  <a:pt x="236" y="1011"/>
                </a:cubicBezTo>
                <a:cubicBezTo>
                  <a:pt x="133" y="1024"/>
                  <a:pt x="251" y="846"/>
                  <a:pt x="232" y="803"/>
                </a:cubicBezTo>
                <a:cubicBezTo>
                  <a:pt x="212" y="760"/>
                  <a:pt x="0" y="864"/>
                  <a:pt x="30" y="789"/>
                </a:cubicBezTo>
                <a:close/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636D80-D6D8-4B5D-A325-41112FCFA857}" type="slidenum">
              <a:t>73</a:t>
            </a:fld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ly top-level mov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4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86" name=""/>
          <p:cNvSpPr/>
          <p:nvPr/>
        </p:nvSpPr>
        <p:spPr>
          <a:xfrm>
            <a:off x="322200" y="1913040"/>
            <a:ext cx="8605800" cy="44982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e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e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cut topLevelMove(FigureElement fe):</a:t>
            </a:r>
            <a:br>
              <a:rPr sz="1800"/>
            </a:br>
            <a:r>
              <a:rPr b="0" lang="en-US" sz="1800" spc="-1" strike="noStrike">
                <a:solidFill>
                  <a:srgbClr val="ff3300"/>
                </a:solidFill>
                <a:latin typeface="Lucida Console"/>
              </a:rPr>
              <a:t>    move(fe) &amp;&amp; !cflowbelow(move(FigureEleme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topLevel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C299EB-617B-4677-9474-3A13D2756932}" type="slidenum">
              <a:t>74</a:t>
            </a:fld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Java5 introduced many changes to the Java langu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Generics, enum types, varargs support, covariance, autoboxing, annotation typ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3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spectJ5 supports all of these featur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he AspectJ language has been extended to enable exploitation of these new featur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3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For all the details: see the AspectJ5 quick reference guide and AspectJ5 developers notebook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</a:t>
            </a:r>
            <a:r>
              <a:rPr b="0" lang="en-GB" sz="2800" spc="-1" strike="noStrike" u="sng">
                <a:solidFill>
                  <a:srgbClr val="009999"/>
                </a:solidFill>
                <a:uFillTx/>
                <a:latin typeface="Trebuchet MS"/>
                <a:hlinkClick r:id="rId3"/>
              </a:rPr>
              <a:t>eclipse.org/aspectj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B8EF72-2A03-44DB-BF63-07726994BFE4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20560" y="1625760"/>
            <a:ext cx="7772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Java 5 introduces annotations to the Java langua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notations are metadata that can be attached to various Java language construc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646464"/>
                </a:solidFill>
                <a:latin typeface="Trebuchet MS"/>
              </a:rPr>
              <a:t>methods, fields, types, parameters, constructors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J5 extends the pointcut language to support join point matching based to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0D0163-F166-4DF2-A8A9-79D9F339C2BC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matching on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Suppose methods that ‘move’ figure elements are tagged with annota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93" name=""/>
          <p:cNvSpPr/>
          <p:nvPr/>
        </p:nvSpPr>
        <p:spPr>
          <a:xfrm>
            <a:off x="287280" y="2276640"/>
            <a:ext cx="5334120" cy="42087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@interfac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MovingOperation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{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@MovingOperati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1 = p1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@MovingOper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2 = p2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 flipH="1" flipV="1">
            <a:off x="4464000" y="2457000"/>
            <a:ext cx="2362320" cy="83844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6732720" y="2997360"/>
            <a:ext cx="15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rebuchet MS"/>
              </a:rPr>
              <a:t>Defining an anno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6588000" y="4005360"/>
            <a:ext cx="223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rebuchet MS"/>
              </a:rPr>
              <a:t>Marking methods with the anno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 flipH="1" flipV="1">
            <a:off x="3058920" y="4113360"/>
            <a:ext cx="3600360" cy="28728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 flipH="1">
            <a:off x="3058920" y="4437000"/>
            <a:ext cx="3600360" cy="79236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8D2FAE-2859-45B7-A30E-6F5D8742BE88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matching on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0" name=""/>
          <p:cNvSpPr/>
          <p:nvPr/>
        </p:nvSpPr>
        <p:spPr>
          <a:xfrm>
            <a:off x="1249560" y="3268800"/>
            <a:ext cx="6627240" cy="2562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e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e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3300"/>
                </a:solidFill>
                <a:latin typeface="Lucida Console"/>
              </a:rPr>
              <a:t>call(@MovingOperation * 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uppose methods that ‘move’ figure elements are tagged with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Pointcuts can now be written to match on annotation properties of the pointcut rather than the na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5E1994-3246-4C2A-BE94-83D91EA24755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New pointcut primitives have been created to make working with annotated join points even easier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@within, @withincode, @this, @target, @args, @annot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BCAB44-F926-4194-A114-05969A950F5C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e AOP idea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osscutting is inherent in complex system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osscutting concern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have a clear purpos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have a natural structur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o, let’s capture the structure of crosscutting concerns explicitly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107066-9981-42F8-A8CD-98083A7A26AF}" type="slidenum">
              <a:t>8</a:t>
            </a:fld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ter-type declar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like member declarations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06" name=""/>
          <p:cNvSpPr/>
          <p:nvPr/>
        </p:nvSpPr>
        <p:spPr>
          <a:xfrm>
            <a:off x="2346480" y="3821040"/>
            <a:ext cx="3444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1753920" y="3260880"/>
            <a:ext cx="4295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ong </a:t>
            </a:r>
            <a:r>
              <a:rPr b="0" i="1" lang="en-US" sz="2000" spc="-1" strike="noStrike">
                <a:solidFill>
                  <a:srgbClr val="99cc00"/>
                </a:solidFill>
                <a:latin typeface="Lucida Console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 = 37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void </a:t>
            </a:r>
            <a:r>
              <a:rPr b="0" i="1" lang="en-US" sz="2000" spc="-1" strike="noStrike">
                <a:solidFill>
                  <a:srgbClr val="99cc00"/>
                </a:solidFill>
                <a:latin typeface="Lucida Console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m() { ...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35DCD1-139E-4ED4-B167-C9AF4865790A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ter-type declar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like member declarations, but with a </a:t>
            </a:r>
            <a:r>
              <a:rPr b="0" i="1" lang="en-US" sz="3200" spc="-1" strike="noStrike">
                <a:solidFill>
                  <a:srgbClr val="646464"/>
                </a:solidFill>
                <a:latin typeface="Trebuchet MS"/>
              </a:rPr>
              <a:t>TargetTyp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0" name=""/>
          <p:cNvSpPr/>
          <p:nvPr/>
        </p:nvSpPr>
        <p:spPr>
          <a:xfrm>
            <a:off x="2346480" y="3821040"/>
            <a:ext cx="3444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1754280" y="3260880"/>
            <a:ext cx="4295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ong </a:t>
            </a:r>
            <a:r>
              <a:rPr b="0" i="1" lang="en-US" sz="2000" spc="-1" strike="noStrike">
                <a:solidFill>
                  <a:srgbClr val="0033cc"/>
                </a:solidFill>
                <a:latin typeface="Lucida Console"/>
              </a:rPr>
              <a:t>TargetType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.l = 37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void </a:t>
            </a:r>
            <a:r>
              <a:rPr b="0" i="1" lang="en-US" sz="2000" spc="-1" strike="noStrike">
                <a:solidFill>
                  <a:srgbClr val="0033cc"/>
                </a:solidFill>
                <a:latin typeface="Lucida Console"/>
              </a:rPr>
              <a:t>TargetType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.m() { ...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37951C-DA59-4AC2-8E11-7345AB9831A5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353160" y="2816280"/>
            <a:ext cx="7724520" cy="36291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 FigureElement.displa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static 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Display(FigureElement fe, Display d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e.display = 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igElt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lt;as before&gt;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e.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e display per figure eleme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5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he aspect makes an inter-type declaration of a display field onto all FigureEleme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037109-C772-4CC8-B1B6-C532FF36C835}" type="slidenum">
              <a:t>82</a:t>
            </a:fld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mmon ITD field idiom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e display field…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…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s a field in objects of type FigureElement…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…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but belongs to DisplayUpdating as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o, DisplayUpdating should provide getter/sette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7" name=""/>
          <p:cNvSpPr/>
          <p:nvPr/>
        </p:nvSpPr>
        <p:spPr>
          <a:xfrm>
            <a:off x="287280" y="3200400"/>
            <a:ext cx="8569440" cy="33260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Display FigureElement.display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set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 = d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pointcut move(FigureElement figElt)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&lt;as before&gt;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after(FigureElement fe): move(fe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fe.display.update(fe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6119640" y="4365720"/>
            <a:ext cx="2465640" cy="131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private with respect to enclosing aspect declar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 flipV="1">
            <a:off x="5616720" y="3789360"/>
            <a:ext cx="610920" cy="719280"/>
          </a:xfrm>
          <a:custGeom>
            <a:avLst/>
            <a:gdLst/>
            <a:ahLst/>
            <a:rect l="l" t="t" r="r" b="b"/>
            <a:pathLst>
              <a:path w="2231" h="297">
                <a:moveTo>
                  <a:pt x="2231" y="0"/>
                </a:moveTo>
                <a:lnTo>
                  <a:pt x="0" y="29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2DE12C-12FE-465C-8A17-9000ECA70B40}" type="slidenum">
              <a:t>83</a:t>
            </a:fld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e-to-man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DisplayUpdating version6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 figurelement knows about multiple Display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22" name=""/>
          <p:cNvSpPr/>
          <p:nvPr/>
        </p:nvSpPr>
        <p:spPr>
          <a:xfrm>
            <a:off x="311040" y="2205000"/>
            <a:ext cx="8601120" cy="4285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List FigureElement.displays = new LinkedList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add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s.add(d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remove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s.remove(d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pointcut move(FigureElement figElt)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&lt;as before&gt;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after(FigureElement fe): move(fe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Iterator iter = fe.displays.iterator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..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EC4B7D-74FD-45F8-B3AF-2B4E7EAB2843}" type="slidenum">
              <a:t>84</a:t>
            </a:fld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heritance &amp; specializa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ointcuts can have additional advi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 with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oncrete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erhaps no advice on the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n figure editor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46464"/>
                </a:solidFill>
                <a:latin typeface="Courier New"/>
              </a:rPr>
              <a:t>move()</a:t>
            </a: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 can have advice from multiple aspec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module can expose certain well-defined pointcut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524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6464"/>
                </a:solidFill>
                <a:latin typeface="Trebuchet MS"/>
              </a:rPr>
              <a:t>a ‘pointcut library’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lnSpc>
                <a:spcPct val="75000"/>
              </a:lnSpc>
              <a:spcBef>
                <a:spcPts val="5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06C681-9A3F-4214-8D89-D93CD7574F0F}" type="slidenum">
              <a:t>85</a:t>
            </a:fld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heritance &amp; specializa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bstract pointcuts can be specializ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 with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bstract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oncrete advice on the abstract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bstract aspects can be packaged and extended by users desiring their capabil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3" marL="1600200" indent="-2286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n ‘aspect library’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79601E-B3B7-43BA-AB27-05D4D6F8CF08}" type="slidenum">
              <a:t>86</a:t>
            </a:fld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520200" y="550800"/>
            <a:ext cx="82645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role types and reusable aspec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8" name=""/>
          <p:cNvSpPr/>
          <p:nvPr/>
        </p:nvSpPr>
        <p:spPr>
          <a:xfrm>
            <a:off x="287280" y="1592280"/>
            <a:ext cx="8569440" cy="4835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Observing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otected interfac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Subject  {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otected interfac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Observer {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ffffff"/>
                </a:solidFill>
                <a:latin typeface="Lucida Console"/>
              </a:rPr>
              <a:t>  </a:t>
            </a:r>
            <a:br>
              <a:rPr sz="500"/>
            </a:b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List Subject.observers =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ArrayList(); 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addObserver(Subject s, Observer o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removeObserver(Subject s, Observer o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List getObservers(Subject s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 pointcu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changes(Subject s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(Subject s): changes(s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Iterator iter = getObservers(s).iterator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whil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( iter.hasNext() 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notifyObserver(s, ((Observer)iter.next())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notifyObserver(Subject s, Observer o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E872DA-D827-4573-846D-E69EA51C32FA}" type="slidenum">
              <a:t>87</a:t>
            </a:fld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is is the concrete reu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7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Just an example of subject/observer patter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1" name=""/>
          <p:cNvSpPr/>
          <p:nvPr/>
        </p:nvSpPr>
        <p:spPr>
          <a:xfrm>
            <a:off x="250920" y="2276640"/>
            <a:ext cx="8642160" cy="41623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extend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Observ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arents: FigureElement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mplement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ubjec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arents: Display   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mplement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Observer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changes(Subject s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s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otifyObserver(Subject s, Observer o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(Display)o).update(s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8759DA-2080-4D04-BEDC-1ACF17689D6B}" type="slidenum">
              <a:t>88</a:t>
            </a:fld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preceden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what happens if two pieces of advice apply to the same join point?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4" name=""/>
          <p:cNvSpPr/>
          <p:nvPr/>
        </p:nvSpPr>
        <p:spPr>
          <a:xfrm>
            <a:off x="250920" y="2492280"/>
            <a:ext cx="4495680" cy="15541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* *(..)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(!Policy.isAllowed(tjp)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row new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Exn()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}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4176720" y="3141720"/>
            <a:ext cx="4495680" cy="2040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ing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logged(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System.err.println(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"Entering " + tjp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ed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troublesomeMethod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216000" y="4834080"/>
            <a:ext cx="32763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rebuchet MS"/>
              </a:rPr>
              <a:t>tjp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 means ‘</a:t>
            </a:r>
            <a:r>
              <a:rPr b="1" lang="en-US" sz="2000" spc="-1" strike="noStrike">
                <a:solidFill>
                  <a:srgbClr val="0033cc"/>
                </a:solidFill>
                <a:latin typeface="Trebuchet MS"/>
              </a:rPr>
              <a:t>thisJoinPoint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26A5F7-6564-46FC-A175-54B1752E19E6}" type="slidenum">
              <a:t>89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is tutorial is about...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using AOP and AspectJ to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mprove the modularity of crosscutting concern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spects are two thing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ncerns that crosscut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13b5b1"/>
                </a:solidFill>
                <a:latin typeface="Trebuchet MS"/>
              </a:rPr>
              <a:t>[design level]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 programming construct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13b5b1"/>
                </a:solidFill>
                <a:latin typeface="Trebuchet MS"/>
              </a:rPr>
              <a:t>[implementation level]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nables crosscutting concerns</a:t>
            </a:r>
            <a:br>
              <a:rPr sz="2400"/>
            </a:b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to be captured in modular uni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639126-8510-472C-B5AD-D92839EF1A5F}" type="slidenum">
              <a:t>9</a:t>
            </a:fld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preceden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286920" y="1295280"/>
            <a:ext cx="838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46464"/>
                </a:solidFill>
                <a:latin typeface="Trebuchet MS"/>
              </a:rPr>
              <a:t>order is undefined</a:t>
            </a: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, unless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n the same aspect,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n subaspect, o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using declare </a:t>
            </a:r>
            <a:br>
              <a:rPr sz="2400"/>
            </a:b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recedenc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9" name=""/>
          <p:cNvSpPr/>
          <p:nvPr/>
        </p:nvSpPr>
        <p:spPr>
          <a:xfrm>
            <a:off x="216000" y="3573360"/>
            <a:ext cx="4495680" cy="17974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*(..)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(!Policy.isAllwed(tjp)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row new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Exn()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}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recedence: Security, *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4500720" y="1916280"/>
            <a:ext cx="4495680" cy="2040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ing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logged(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System.err.println(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"Entering " + tjp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ed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troublesomeMethod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0E5F0D-6E09-470A-A83F-C17D50B05F62}" type="slidenum">
              <a:t>90</a:t>
            </a:fld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 Development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31640" y="1197000"/>
            <a:ext cx="8229600" cy="51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spectJ5 supports an alternative ‘annotation based’ style of aspect declaratio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646464"/>
                </a:solidFill>
                <a:latin typeface="Trebuchet MS"/>
              </a:rPr>
              <a:t>For a subset of the AspectJ langu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ables aspect development in pure-Java IDE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spect is pure-java, compiled with Java5 and then given to the AspectJ weav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tyles can be mixed within an application (or even within a source file!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he intent is that the semantics are identical, regardless of the source style chosen to express the aspec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B0A993-734E-432D-8C1B-5E5996DA83AE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"/>
          <p:cNvSpPr/>
          <p:nvPr/>
        </p:nvSpPr>
        <p:spPr>
          <a:xfrm>
            <a:off x="1116000" y="3645000"/>
            <a:ext cx="6985080" cy="1191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import org.aspectj.lang.annotation.*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Asp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ublic class Tracing {…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defining an aspect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code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annotation style, a class is annotated to indicate it is an as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46" name=""/>
          <p:cNvSpPr/>
          <p:nvPr/>
        </p:nvSpPr>
        <p:spPr>
          <a:xfrm>
            <a:off x="1079640" y="1916280"/>
            <a:ext cx="6984720" cy="3682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ublic aspect Tracing {…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6443640" y="4292640"/>
            <a:ext cx="151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cc"/>
                </a:solidFill>
                <a:latin typeface="Trebuchet MS"/>
              </a:rPr>
              <a:t>Don’t forget the impo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 flipH="1" flipV="1">
            <a:off x="5686200" y="4076280"/>
            <a:ext cx="1152360" cy="53964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E0C1A1-47B4-4F16-89A5-BC6BEBC50DF9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250560" y="11556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pointcut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31640" y="123300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Unsurprisingly, pointcuts and advice declarations involve these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Lucida Console"/>
              </a:rPr>
              <a:t>@Pointcut @Before @After @AfterReturning @AfterThrowing @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e </a:t>
            </a:r>
            <a:r>
              <a:rPr b="1" lang="en-GB" sz="2400" spc="-1" strike="noStrike">
                <a:solidFill>
                  <a:srgbClr val="3333cc"/>
                </a:solidFill>
                <a:latin typeface="Lucida Console"/>
              </a:rPr>
              <a:t>@Pointcut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 annotation is attached to a method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646464"/>
                </a:solidFill>
                <a:latin typeface="Trebuchet MS"/>
              </a:rPr>
              <a:t>the annotation value is the pointcut text</a:t>
            </a:r>
            <a:endParaRPr b="0" lang="en-US" sz="16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1" name=""/>
          <p:cNvSpPr/>
          <p:nvPr/>
        </p:nvSpPr>
        <p:spPr>
          <a:xfrm>
            <a:off x="324000" y="3483000"/>
            <a:ext cx="410364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ointcut anyCall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call(* 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4788000" y="3446640"/>
            <a:ext cx="406872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“call(* *(..))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anyCall(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142920" y="4346640"/>
            <a:ext cx="4284720" cy="5806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pointcut listCalls(MyList list)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call(* *(int)) &amp;&amp; target(list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4788000" y="4346640"/>
            <a:ext cx="4068720" cy="916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“call(* *(int)) &amp;&amp; target(list)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listCalls(MyList lis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4427640" y="3699000"/>
            <a:ext cx="358560" cy="215640"/>
          </a:xfrm>
          <a:prstGeom prst="rightArrow">
            <a:avLst>
              <a:gd name="adj1" fmla="val 50000"/>
              <a:gd name="adj2" fmla="val 4156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4427640" y="4491000"/>
            <a:ext cx="358560" cy="216000"/>
          </a:xfrm>
          <a:prstGeom prst="rightArrow">
            <a:avLst>
              <a:gd name="adj1" fmla="val 50000"/>
              <a:gd name="adj2" fmla="val 41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4845D5-E380-4ED8-B7FA-8D8970646AD0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type reference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code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ype references are resolved in the context of any types imported into the source fi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annotation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ype references need to be resolved </a:t>
            </a:r>
            <a:r>
              <a:rPr b="1" i="1" lang="en-GB" sz="2000" spc="-1" strike="noStrike">
                <a:solidFill>
                  <a:srgbClr val="646464"/>
                </a:solidFill>
                <a:latin typeface="Trebuchet MS"/>
              </a:rPr>
              <a:t>without</a:t>
            </a: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 that information therefore have to be fully specified (if not visible by default - in the same package or in java.lang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646464"/>
                </a:solidFill>
                <a:latin typeface="Trebuchet MS"/>
              </a:rPr>
              <a:t>this doesn’t apply to wildcards which are always resolved in global scop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051560" indent="-210240">
              <a:lnSpc>
                <a:spcPct val="80000"/>
              </a:lnSpc>
              <a:spcBef>
                <a:spcPts val="349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Trebuchet MS"/>
              </a:rPr>
              <a:t>List has to be fully qualified, importing it into won’t help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9" name=""/>
          <p:cNvSpPr/>
          <p:nvPr/>
        </p:nvSpPr>
        <p:spPr>
          <a:xfrm>
            <a:off x="1042920" y="4257720"/>
            <a:ext cx="712800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"call(* java.util.List.*(..))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listOperation() {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2654F6-6065-496F-A59A-9D3E0A3402C7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 development :</a:t>
            </a:r>
            <a:br>
              <a:rPr sz="4000"/>
            </a:b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dvice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notation style advice is a method with the appropriate advice annot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Lucida Console"/>
              </a:rPr>
              <a:t>@Before @After @AfterReturning @AfterThrowing, @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62" name=""/>
          <p:cNvSpPr/>
          <p:nvPr/>
        </p:nvSpPr>
        <p:spPr>
          <a:xfrm>
            <a:off x="503280" y="2776680"/>
            <a:ext cx="8353440" cy="916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before(Foo foo) : call(* org.pkg..*(..)) &amp;&amp; this(foo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System.out.println("Call from Foo: " + foo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503280" y="4071960"/>
            <a:ext cx="8353440" cy="1191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@Before("call(* org.pkg..*(..)) &amp;&amp; this(foo)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public void callFromFoo(Foo foo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System.out.println("Call from Foo: " + foo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 rot="5400000">
            <a:off x="4428720" y="3783240"/>
            <a:ext cx="358920" cy="215640"/>
          </a:xfrm>
          <a:prstGeom prst="rightArrow">
            <a:avLst>
              <a:gd name="adj1" fmla="val 50000"/>
              <a:gd name="adj2" fmla="val 4161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5D6734-BAD7-4666-A80D-E61BC392C426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"/>
          <p:cNvSpPr/>
          <p:nvPr/>
        </p:nvSpPr>
        <p:spPr>
          <a:xfrm>
            <a:off x="216000" y="1233360"/>
            <a:ext cx="8748720" cy="525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ummar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67" name=""/>
          <p:cNvSpPr/>
          <p:nvPr/>
        </p:nvSpPr>
        <p:spPr>
          <a:xfrm>
            <a:off x="6019920" y="1295280"/>
            <a:ext cx="29718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dvi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f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f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ou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inter-type decl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.fie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.method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declar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rr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ced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refle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JoinPoi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JoinPointStaticPar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3505320" y="1295280"/>
            <a:ext cx="266688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pointcu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primitive-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ll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execut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handle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get  set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  target 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thin withincode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cflow cflowbelow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-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user-defined-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pointcut declarat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abstra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verrid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566640" y="1295280"/>
            <a:ext cx="331956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join points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thod &amp; constructo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ca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e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ception hand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spec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rosscutting typ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7E8C7C-E006-49AD-A96B-59C2605F8BCC}" type="slidenum">
              <a:t>96</a:t>
            </a:fld>
          </a:p>
        </p:txBody>
      </p:sp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6699"/>
                </a:solidFill>
                <a:latin typeface="Trebuchet MS"/>
              </a:rPr>
              <a:t>Part III</a:t>
            </a:r>
            <a:endParaRPr b="0" lang="en-US" sz="65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 type="subTitle"/>
          </p:nvPr>
        </p:nvSpPr>
        <p:spPr>
          <a:xfrm>
            <a:off x="2347920" y="20368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464"/>
                </a:solidFill>
                <a:latin typeface="Trebuchet MS"/>
              </a:rPr>
              <a:t>Adopting AspectJ</a:t>
            </a: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hen are aspects appropriate?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46464"/>
                </a:solidFill>
                <a:latin typeface="Trebuchet MS"/>
              </a:rPr>
              <a:t>Think!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Is there a concern that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rosscuts the structure of several objects or oper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s beneficial to separate o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1BBEAF-0E5A-4B11-B3B1-D72844BB391F}" type="slidenum">
              <a:t>98</a:t>
            </a:fld>
          </a:p>
        </p:txBody>
      </p:sp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… 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a design concern that involves several objects or operation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implemented without AOP would lead to distant places in the code th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o the same thing 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raceEntry(“Point.set”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o a coordinated single thing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iming, observer patter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harder to find thes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C23CD0-C40A-48F7-8DB9-48CB3B570DD6}" type="slidenum">
              <a:t>9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3T15:26:08Z</dcterms:created>
  <dc:creator/>
  <dc:description/>
  <dc:language>en-US</dc:language>
  <cp:lastModifiedBy>IBM_USER</cp:lastModifiedBy>
  <dcterms:modified xsi:type="dcterms:W3CDTF">2006-05-08T11:57:20Z</dcterms:modified>
  <cp:revision>577</cp:revision>
  <dc:subject/>
  <dc:title>Aspect-Oriented Programming with AspectJ® </dc:title>
</cp:coreProperties>
</file>