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4675"/>
        <c:axId val="69276909"/>
      </c:barChart>
      <c:catAx>
        <c:axId val="77634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6909"/>
        <c:crosses val="autoZero"/>
        <c:auto val="1"/>
        <c:lblAlgn val="ctr"/>
        <c:lblOffset val="100"/>
        <c:noMultiLvlLbl val="0"/>
      </c:catAx>
      <c:valAx>
        <c:axId val="69276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4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5EF-F955-4B8D-9E64-BDE4770E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8C6-070B-4690-8A44-B0D0AB67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230-29AE-4B83-83B6-5485AF70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2DD-4D27-4C84-8A85-FD49286F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A24-D239-46A1-8A6C-A8213C1E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A31-949B-4C62-8662-25B50066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D86-9483-4076-8052-C0BA6BD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4BB-1D16-4DC7-94A3-BEC7F074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E0E-8DD7-4FD7-BF3D-0B64730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851-12E1-4E7B-82BD-039E056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903-47E2-4413-A087-AA6885D9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DB5-DAC3-4FAB-937B-8D72274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2E6B7-A3EA-4B64-A847-AC129BA1F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