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37833"/>
        <c:axId val="83765700"/>
      </c:barChart>
      <c:catAx>
        <c:axId val="289378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65700"/>
        <c:crosses val="autoZero"/>
        <c:auto val="1"/>
        <c:lblAlgn val="ctr"/>
        <c:lblOffset val="100"/>
        <c:noMultiLvlLbl val="0"/>
      </c:catAx>
      <c:valAx>
        <c:axId val="83765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378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A34-D553-4140-8105-08241EAB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6C23-1226-4984-B937-C7C58E7A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156B-00EB-435F-8E48-CA02A61C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5BF-2791-4450-A03D-76204802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8E4-9A49-4B71-8F2A-19F5F3CA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A9B-3B2F-439A-875B-646B2049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468E-FAE1-46CE-A3B2-0200574C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004-B8C4-4B54-AB74-71B72B5A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748-3F26-4616-AFFC-C7EB0BAE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E268-F328-4F6F-AF67-556B2451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2E13-BB6F-49D9-B869-402EF354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07C7-40D0-4CDF-981A-F02D4B21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06E62-D893-41EF-9C1E-C162389049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