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31181"/>
        <c:axId val="861540"/>
      </c:barChart>
      <c:catAx>
        <c:axId val="301311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540"/>
        <c:crosses val="autoZero"/>
        <c:auto val="1"/>
        <c:lblAlgn val="ctr"/>
        <c:lblOffset val="100"/>
        <c:noMultiLvlLbl val="0"/>
      </c:catAx>
      <c:valAx>
        <c:axId val="861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311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F08-9C5E-471C-8CF2-30289292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F69-1182-40C6-92F1-C5EE588E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0CD-9849-4435-8E8B-A96F94DC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A2F-F7B9-4FE4-A9F9-D4377B0B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E11-EF07-4721-88AE-CC26D9C6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4BB-0BBE-44E6-9D18-0B01B20D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BE8-6BB3-4D44-ABD7-EFECDB71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C9E-FC12-4F29-BEF9-BCD6B663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955-F2DB-4F49-BDEF-9FBEAD76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2DD-C402-4272-95F5-A3C4C0A3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F33-87F2-4A69-936E-948EAF83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D7D-C8D2-4FA9-8522-3CF5BCE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AB4AB-2B6C-46AF-9072-690F02916D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