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19616"/>
        <c:axId val="97859593"/>
      </c:barChart>
      <c:catAx>
        <c:axId val="60719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59593"/>
        <c:crosses val="autoZero"/>
        <c:auto val="1"/>
        <c:lblAlgn val="ctr"/>
        <c:lblOffset val="100"/>
        <c:noMultiLvlLbl val="0"/>
      </c:catAx>
      <c:valAx>
        <c:axId val="97859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19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E06-8EC5-4B53-BAEA-CCB0094B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70F-DB48-4D68-926B-5743C7B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D22-004C-496B-BBDC-3EA8C92A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1B5-6816-4825-93AD-3AF6400E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E1E-BFA5-4A0E-8DBA-CCE3BC00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C8A-A839-4FEA-986D-AC8962F1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A77-8A6A-4CBB-981C-355E4C5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90A-AA5C-49D0-B4A2-0A7CF2BF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238-990C-4F0B-94AA-092DA69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8F5-FE2B-4F51-AC7B-9E7E8C90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A7D-18A1-4EF4-9CD5-1C8A69BD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EEB-3245-48D3-96D0-3003B37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5EFFA-BE18-429E-A9A1-B2C6FFB30D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