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73300"/>
        <c:axId val="92206710"/>
      </c:barChart>
      <c:catAx>
        <c:axId val="93273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06710"/>
        <c:crosses val="autoZero"/>
        <c:auto val="1"/>
        <c:lblAlgn val="ctr"/>
        <c:lblOffset val="100"/>
        <c:noMultiLvlLbl val="0"/>
      </c:catAx>
      <c:valAx>
        <c:axId val="92206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3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A93-9FC3-4D5D-BE00-9C934399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F69-5F77-46F3-AB99-0C2A466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BBD-0C55-43C1-A656-412808AB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839-1359-4722-B2ED-96EBF59B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771-0ED2-439E-B565-C5759BE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02B-6562-428E-B153-FC160F29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C00-1DA6-4B2B-A66D-A32AC63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3DA-F30F-403B-B400-8989E27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B93-A48B-44E5-85A2-88E4BB4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AF4-9E7E-4E98-B6E3-AA8D065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5DB-4CFB-420B-91A5-8D48291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FD1-7ED2-4C52-96FE-D91113F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FAD31-8C73-46AD-8CA5-7185722F67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