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37420"/>
        <c:axId val="77419421"/>
      </c:barChart>
      <c:catAx>
        <c:axId val="22537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9421"/>
        <c:crosses val="autoZero"/>
        <c:auto val="1"/>
        <c:lblAlgn val="ctr"/>
        <c:lblOffset val="100"/>
        <c:noMultiLvlLbl val="0"/>
      </c:catAx>
      <c:valAx>
        <c:axId val="77419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7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572-B0C2-439D-923C-6EFB025C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653-23CD-44FF-BE28-2B5AB03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7D4-4EAA-4F63-BC6E-A4FB4A69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7DD-80BD-4643-BCF3-9E2C0302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F20-D334-4EEF-BBC9-52E654D1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1EC-9654-46C7-AAB9-F374BE2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396-2A94-455C-A7D2-E68D9233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98D-D64A-4DD6-AF02-BCDAAC1E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290-099E-4F18-BC8F-7ABAAD2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0D0-B561-40A2-95A2-26C9770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10C-6A63-4D24-9FF6-24535D9F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A83-21FF-4976-A032-5145664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D06D8-54E5-4A99-8E0E-619F0F918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