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37849"/>
        <c:axId val="63832260"/>
      </c:barChart>
      <c:catAx>
        <c:axId val="27237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32260"/>
        <c:crosses val="autoZero"/>
        <c:auto val="1"/>
        <c:lblAlgn val="ctr"/>
        <c:lblOffset val="100"/>
        <c:noMultiLvlLbl val="0"/>
      </c:catAx>
      <c:valAx>
        <c:axId val="63832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37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2DD-C04F-4699-B5CA-BDED3DF5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BD1-6046-4378-A1A0-2C31BBCB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415-99BB-4AB5-982A-9EBE8CF4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890-5B3C-4352-933C-F4EA08EC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917-ACFB-43B6-855C-1452FCC3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A73-70B4-4003-81A4-386F665E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72C-E458-466B-86E0-0164FA8B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FF5-46A1-4B81-BBF8-9893D667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02A-001E-404F-B97B-1809E86A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649-8EDD-475D-A503-0EBAE241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616-B843-4CBC-99E5-A2167D77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2BE-F194-4534-823F-F48A1B7E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D4ADB-255B-41D7-8557-B856979663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