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90945"/>
        <c:axId val="46956179"/>
      </c:barChart>
      <c:catAx>
        <c:axId val="65790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56179"/>
        <c:crosses val="autoZero"/>
        <c:auto val="1"/>
        <c:lblAlgn val="ctr"/>
        <c:lblOffset val="100"/>
        <c:noMultiLvlLbl val="0"/>
      </c:catAx>
      <c:valAx>
        <c:axId val="46956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90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899-6C07-49FB-99C7-47E884A1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17F-B28B-4107-B9F1-09262607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E90-A07F-4836-851D-86147802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4AB-646B-4701-B028-203A5B0C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2FB-2749-4907-87E3-1317A2CE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902-964F-46CB-AA6B-30D7ADCD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938-5E22-46A4-A216-4E820CE9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1ED-0CF0-4F41-9905-5F497C24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D1C-C63E-4FFB-9775-B6CCC84C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A61-477A-4FB1-9227-3B0F5F73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C9D-D726-41DE-9CE3-3177BD89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337-F893-4FD6-B29B-6A80D80C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F7EAA-ABB9-47B7-9026-4E3565D1D6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