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575602"/>
        <c:axId val="73069316"/>
      </c:barChart>
      <c:catAx>
        <c:axId val="125756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069316"/>
        <c:crosses val="autoZero"/>
        <c:auto val="1"/>
        <c:lblAlgn val="ctr"/>
        <c:lblOffset val="100"/>
        <c:noMultiLvlLbl val="0"/>
      </c:catAx>
      <c:valAx>
        <c:axId val="730693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5756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6149-04AA-497C-B009-DDF8B06FE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D0F5-E92B-4936-B4EE-B7BDAF08B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A1E3-C75D-495A-B2E9-09219B5DA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4E75-6D42-458A-8D59-84D3501E0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0682-7FD0-4D00-995D-9DE8F2F5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BA75-442A-4115-B413-4B2ECEC89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4BAE-30B6-4566-BB0A-A5FD45CF2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A60B-2945-4197-8B47-EF550923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3D79-4651-4E13-AEA6-18211E5D8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C245-73F1-43C0-B3DD-3BCD6974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CC3B-56B5-4590-A865-0D35A6F9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5D35-C421-471E-8E53-9EEE6B94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3054B3-6E4A-4D7F-9634-149A2F34EAB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