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041413"/>
        <c:axId val="49978671"/>
      </c:barChart>
      <c:catAx>
        <c:axId val="910414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78671"/>
        <c:crosses val="autoZero"/>
        <c:auto val="1"/>
        <c:lblAlgn val="ctr"/>
        <c:lblOffset val="100"/>
        <c:noMultiLvlLbl val="0"/>
      </c:catAx>
      <c:valAx>
        <c:axId val="49978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414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91BD-AC9B-4E58-82B2-0EB5A97F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A5F6-9C10-439E-9E39-DEE62FE6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508E-2B7A-4365-A605-224D8EDD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483-A647-496C-8070-F6F3F1FC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CD94-E061-4502-B8E2-4EF4B8F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A27-7430-49F6-BC45-3379D8D2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76B-E84C-471F-9117-AEC309A4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9F53-D76F-43E5-AAE6-4C34E7FAA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5A2-B8A8-4EB2-A300-EEA5ECBF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E67B-64D5-46EB-82B6-9D6C6BFB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474-C1EE-45F4-A630-26DD7FEE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74D-03A6-4176-9D45-91530C6C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2DE1A-9B8F-4FDC-89F4-0ACA4F9CDC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