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454831"/>
        <c:axId val="37348323"/>
      </c:barChart>
      <c:catAx>
        <c:axId val="944548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48323"/>
        <c:crosses val="autoZero"/>
        <c:auto val="1"/>
        <c:lblAlgn val="ctr"/>
        <c:lblOffset val="100"/>
        <c:noMultiLvlLbl val="0"/>
      </c:catAx>
      <c:valAx>
        <c:axId val="373483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548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3CF5-B4E5-4747-97EF-E5202FA9E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41A6-6F66-4243-8F2C-04C47051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D95D-5957-4163-BF32-7ACE09003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F136-8412-40D8-9BB3-AD46422E0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7A3A-24A7-4DEF-82DF-D8064830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8466-5FDB-4EDD-BCF3-A7A7682D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C01A-1244-4742-8C36-D404B264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E75E-7E07-49D9-977C-7C46E111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449C-4EAD-4F1F-A5E2-180B2F6D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0FBB-22A8-4531-A82E-83CD4BFD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86EB-E101-4017-968F-45FFE60C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479E-8FCA-4DF2-B194-529398DD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7913E-F4C9-4C06-9187-D73129EA33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