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75842"/>
        <c:axId val="56114132"/>
      </c:barChart>
      <c:catAx>
        <c:axId val="683758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14132"/>
        <c:crosses val="autoZero"/>
        <c:auto val="1"/>
        <c:lblAlgn val="ctr"/>
        <c:lblOffset val="100"/>
        <c:noMultiLvlLbl val="0"/>
      </c:catAx>
      <c:valAx>
        <c:axId val="561141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75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D2D-B617-44DF-B55C-A97B08B9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5A3-04D5-4F73-8D85-9FE00340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7D5-2027-40F0-89E1-85DA11C0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38D-2998-4241-88DF-3FB57A96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FCB-177F-42DD-8C20-AA39E940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D67-EA0C-4379-ACC7-EEFFFEB0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1524-6E5C-4A7F-9754-BE6C74E7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4F5-A014-4092-8EDC-34FD5E6C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57F-CC32-42A1-81FA-58B4F6B2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550-BAC4-4F66-B3BA-AEBE6402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D83-A0F8-4465-86CE-5A8FFF45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B8F2-F8F3-4E6A-BCE3-77FE96B0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536C0-DB5E-4F9B-A75A-7407D39E4C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