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55367"/>
        <c:axId val="69441811"/>
      </c:barChart>
      <c:catAx>
        <c:axId val="259553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441811"/>
        <c:crosses val="autoZero"/>
        <c:auto val="1"/>
        <c:lblAlgn val="ctr"/>
        <c:lblOffset val="100"/>
        <c:noMultiLvlLbl val="0"/>
      </c:catAx>
      <c:valAx>
        <c:axId val="69441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553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878-5CE0-4817-AB80-FF96AC89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088E-AF0F-4527-882C-D8AB2E7D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13B-1895-478B-B4E4-6C5C8D13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9B46-41A8-42A9-907A-5F5BAE8B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66B1-A928-46C9-91BA-5E5F75AB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7E80-94F6-4105-8F2C-DF67BBE7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52E-8E1C-4B10-85E3-F3E51BA8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0AC0-C51F-4670-B525-05FF4817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B97C-9CE6-4F76-BFD3-AD0887B2D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CC4-373A-49E0-A1D3-5BB9B74B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0FFA-9684-4262-AC1E-483C9FFD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2A5-70B1-42A9-BAD8-52014B23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9405D-E708-45A5-8A44-C52F2E9BCF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