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43863"/>
        <c:axId val="35766313"/>
      </c:barChart>
      <c:catAx>
        <c:axId val="67043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66313"/>
        <c:crosses val="autoZero"/>
        <c:auto val="1"/>
        <c:lblAlgn val="ctr"/>
        <c:lblOffset val="100"/>
        <c:noMultiLvlLbl val="0"/>
      </c:catAx>
      <c:valAx>
        <c:axId val="35766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43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F5A-16BA-40BF-9CA0-250646A9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C61-8F29-4AC6-8239-0FC6F70E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8F26-2B83-4FCC-AC70-965CA06A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587-4972-484A-A8AC-03AEE9E5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A59-A08D-47D2-9F30-90ABF63E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B86-B667-4F72-AEA5-2AB657C0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B8F-9EE1-48B8-88A6-9C76C6BC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085-67A3-4730-B716-449DCA51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28A-6377-4576-8F3E-B6E7BBD9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156-13A2-498C-88F0-502FC883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165-6ECE-48FA-9791-682D4430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928-A16E-4F8A-A9D7-66D7CDEB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D956B-5A73-4B53-9195-2F1FC81093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