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68706"/>
        <c:axId val="75102879"/>
      </c:barChart>
      <c:catAx>
        <c:axId val="32668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2879"/>
        <c:crosses val="autoZero"/>
        <c:auto val="1"/>
        <c:lblAlgn val="ctr"/>
        <c:lblOffset val="100"/>
        <c:noMultiLvlLbl val="0"/>
      </c:catAx>
      <c:valAx>
        <c:axId val="75102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68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EBD-78F7-40D8-871F-6776640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ADD-931E-4EE8-9A0C-D144D22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F1C-E29E-4874-9AA3-49F8F734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2B5-CB4B-40FE-A7B5-A7750FA6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2AD-A118-448E-9CC8-16ECC6A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EE6-3CD6-41D2-912C-A069615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66F-CBAF-410F-8FA3-CE3D9DF9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885-5F71-44D3-9E2F-AE6F485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5F4-32EA-4358-A64B-2BD8810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9AC-A7CD-4031-9FDF-44F6E4B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5DF-38C9-4B65-AB20-29C8347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A4D-AC83-4F07-AB5E-4EEFE79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5915-90C8-44D2-A8B3-07A8EB11F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