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06542"/>
        <c:axId val="79769380"/>
      </c:barChart>
      <c:catAx>
        <c:axId val="70206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69380"/>
        <c:crosses val="autoZero"/>
        <c:auto val="1"/>
        <c:lblAlgn val="ctr"/>
        <c:lblOffset val="100"/>
        <c:noMultiLvlLbl val="0"/>
      </c:catAx>
      <c:valAx>
        <c:axId val="79769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06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C71-3F26-4A72-84C5-346BE5DB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FBF-5E74-4B83-90DB-EE919630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231-CF8A-41B8-8965-38157E88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ECD-BEAC-4022-9E53-26E1841D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8E0-92D1-4C52-B7A6-50784575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4EB-7A02-49B5-B041-C2B80F59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979-8752-4CAB-8449-2506D60B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341-DC43-45FD-BBE9-5C9F7532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79D-375B-42C1-9416-59F19659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FBE-5DD7-4E18-B229-16170C4C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D77-2D8F-4A28-B2F0-7FBF418D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FB1-FB46-40D9-9747-7E7D1B5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059C2-6148-4A35-A151-78CB77A8B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