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526866"/>
        <c:axId val="56900368"/>
      </c:barChart>
      <c:catAx>
        <c:axId val="215268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900368"/>
        <c:crosses val="autoZero"/>
        <c:auto val="1"/>
        <c:lblAlgn val="ctr"/>
        <c:lblOffset val="100"/>
        <c:noMultiLvlLbl val="0"/>
      </c:catAx>
      <c:valAx>
        <c:axId val="569003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5268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9425-5C36-478E-AE15-A3DFE9DDE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1355-26FE-4192-AF89-ADDCA9F58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9D6C-369C-4AED-9BF3-26C9A667B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E553-40C0-410E-8A08-610004DC5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135A-3697-4D2D-BFBE-7975D8F6C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4ABE-EF7F-40A6-B096-5CC1548C1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AA50-9A59-46D9-A849-D673BC675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29A3-B04C-4933-B35C-CF61D48C9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BDAC-15CE-4D2B-B071-9228B7579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60DF-6836-4424-ABAB-8DEDD2D1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4C84-7722-4BF0-8B9F-55212DC7A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51E0-4EE3-4008-AA01-34DB95FBC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F60681-8695-4439-8378-448B0EC3BB1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