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4459"/>
        <c:axId val="24441266"/>
      </c:barChart>
      <c:catAx>
        <c:axId val="5174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41266"/>
        <c:crosses val="autoZero"/>
        <c:auto val="1"/>
        <c:lblAlgn val="ctr"/>
        <c:lblOffset val="100"/>
        <c:noMultiLvlLbl val="0"/>
      </c:catAx>
      <c:valAx>
        <c:axId val="24441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4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5EF-6C61-42FE-8BE6-69BB6878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B97-E559-4AD7-881C-1B5F1F87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18F-94F8-4231-BD74-8A9AA7B2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21A7-432B-4123-B2E8-50B571FA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A8C8-2D8F-404C-A376-AA759ACA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D8E-1315-48AD-A323-4CF8EDEC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FDF-A2D7-47F5-B7C2-82F34474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BE8-4CD6-4D2E-B5AF-E7FF1574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B72-FE1A-4C3F-B9F2-CCB94994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C7C2-8852-416E-B6A5-7D6826F0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CA2-A5F2-419D-9929-5504D9E2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C05-298F-4AC4-A856-CA5C54EB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E4280-A547-4762-BCAA-9FB38B6D14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