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211"/>
        <c:axId val="15634281"/>
      </c:barChart>
      <c:catAx>
        <c:axId val="8947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4281"/>
        <c:crosses val="autoZero"/>
        <c:auto val="1"/>
        <c:lblAlgn val="ctr"/>
        <c:lblOffset val="100"/>
        <c:noMultiLvlLbl val="0"/>
      </c:catAx>
      <c:valAx>
        <c:axId val="15634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E3A-1F22-4C8A-9DE2-4E2FD0D8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AE4-6964-41ED-BCA6-5ACED6C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5BF-0519-490F-8187-135FBC1D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226-F26A-4EBD-AC08-164B6FB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61A-C589-41F1-9E86-768C5034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BC8-B3E9-49E9-BB63-90F126B4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DA3-FEC5-4535-832E-3F84247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7E3-EEB5-401E-B40F-ED5F837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74A-318B-4705-80C4-0F51DF66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E3F-70C9-479C-B426-F63730BF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089-572E-44F5-BB6B-5F8519CF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66F-75F4-437C-A30A-6044C579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434F8-6686-49AC-A81F-E71533D936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