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8828"/>
        <c:axId val="13657606"/>
      </c:barChart>
      <c:catAx>
        <c:axId val="1468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57606"/>
        <c:crosses val="autoZero"/>
        <c:auto val="1"/>
        <c:lblAlgn val="ctr"/>
        <c:lblOffset val="100"/>
        <c:noMultiLvlLbl val="0"/>
      </c:catAx>
      <c:valAx>
        <c:axId val="13657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8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354-B07C-49E2-A105-9F8164FE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A54-D94A-49F2-BA59-267853AF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9B4-1FF1-45A9-A015-14F9AAF5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302-ED4D-4444-864A-1E110027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14A-ABAB-4FE0-A52C-FF1E0AE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887-4387-4294-91F6-965F6307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CCB-AC85-4E2B-A0A0-FE0D4B3B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7AB-C170-4E67-9378-87209CD0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775-A8BE-4C7D-8085-B61733DA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2BF-22BD-4386-8A45-EC01488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330-715F-4C04-974E-85EB3B8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90D-4C06-4A09-BD6E-8229636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1A7E5-790E-4A79-B9FF-B16C71F225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