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760738"/>
        <c:axId val="75665751"/>
      </c:barChart>
      <c:catAx>
        <c:axId val="977607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65751"/>
        <c:crosses val="autoZero"/>
        <c:auto val="1"/>
        <c:lblAlgn val="ctr"/>
        <c:lblOffset val="100"/>
        <c:noMultiLvlLbl val="0"/>
      </c:catAx>
      <c:valAx>
        <c:axId val="756657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607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47D-927C-43DF-A351-5D2D513D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A2CD-031A-416A-B130-92690A53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CC81-5FF5-4CD8-B620-54BDE5B6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22D7-8DBD-4B95-A6DD-1B618279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F6DF-9406-424C-9E76-9EC7E1F6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391C-746E-44AA-A9AA-4D780AA2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BA14-F622-4FD5-99DF-D4B93D2F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0F58-12BF-4215-842B-00420C0A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9EB3-2F25-4BFD-B4B3-7290255B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2CF1-9879-4DD6-B4C4-FC4C8C69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AA37-1ADF-49C9-8FAD-5CB79541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2051-8E83-457A-BDD6-B065A750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BFE14-3E22-462B-9190-DF5A94FF71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