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7945953"/>
        <c:axId val="77971950"/>
      </c:barChart>
      <c:catAx>
        <c:axId val="1794595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7971950"/>
        <c:crosses val="autoZero"/>
        <c:auto val="1"/>
        <c:lblAlgn val="ctr"/>
        <c:lblOffset val="100"/>
        <c:noMultiLvlLbl val="0"/>
      </c:catAx>
      <c:valAx>
        <c:axId val="7797195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94595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B31B7-4873-42AF-8A7E-A26AF2BA2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4F5FC-501E-4C4B-8A2F-DCFA91C6A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E5E11-52B8-485A-8E99-B593613D0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4EDA8-868D-4D94-8721-D6C291808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948FF-BCDA-4FA5-BBD9-702FC0040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03A72-1F3B-42CF-A194-ADCC16AC5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60FA1-5CCF-49C9-9C1E-5A4DA1C22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8D101-3C14-4BD4-842C-054F03929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8DD3B-F162-4FAF-93E8-10EDF3282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CB708-9380-4E25-86D1-4793A944F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A1ACA-97CC-4013-A1A7-C472FD10E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78106-4C3E-4810-B802-928387963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A8DB2B-A4C7-4A8D-B29D-710108F14BA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