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9308410"/>
        <c:axId val="49667102"/>
      </c:barChart>
      <c:catAx>
        <c:axId val="7930841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667102"/>
        <c:crosses val="autoZero"/>
        <c:auto val="1"/>
        <c:lblAlgn val="ctr"/>
        <c:lblOffset val="100"/>
        <c:noMultiLvlLbl val="0"/>
      </c:catAx>
      <c:valAx>
        <c:axId val="4966710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30841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7278-68BF-4C64-9927-1FD8B6E49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C871-ECB6-466E-9394-EFB6C690A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E2EB-C06D-4F96-9548-1EC343818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0E94-DA09-46ED-AB67-618ADFF24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BB74-B7F2-48E1-BEF8-12A101ABD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4631-3C72-4266-91E1-86FF393F2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8B76-8B5C-4CEF-8E1B-759F90DE8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AE4C-027A-4AC4-9E90-EA39754A6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3BD3-6597-4740-B5D7-8E9D2046A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F02A-36B7-45D2-B54D-E46C9BCC2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21B6-C031-4789-BA63-08C3E20D7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94C0-0A09-4306-8556-A6825B4A4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1009FE-9583-4D5D-8AAC-A5B54F886F9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