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78361"/>
        <c:axId val="13393386"/>
      </c:barChart>
      <c:catAx>
        <c:axId val="89678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3386"/>
        <c:crosses val="autoZero"/>
        <c:auto val="1"/>
        <c:lblAlgn val="ctr"/>
        <c:lblOffset val="100"/>
        <c:noMultiLvlLbl val="0"/>
      </c:catAx>
      <c:valAx>
        <c:axId val="13393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8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5B4-4979-4C90-87D4-19FDB8AC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F2C-5A1D-407B-83F3-06A91080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0E2-1D45-4DAE-9A18-4CFE6625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61A-B2C0-46BF-B4AD-3DF172A8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308-6942-468A-B5D3-4A732D4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A2A-A0DE-43A8-85DD-269A974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129-BB34-48E2-A5D2-BE892AD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7C6-62F3-439D-87AF-6686C149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D00-04A5-4003-B1BF-CF143918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FE9-AA87-4310-A38B-23D5E25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292-5338-4834-A171-1F011EB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070-3594-4BB9-BFFC-66661FA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A8724-2413-48E9-A0BE-60513332CA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