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10972"/>
        <c:axId val="23982645"/>
      </c:barChart>
      <c:catAx>
        <c:axId val="38310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82645"/>
        <c:crosses val="autoZero"/>
        <c:auto val="1"/>
        <c:lblAlgn val="ctr"/>
        <c:lblOffset val="100"/>
        <c:noMultiLvlLbl val="0"/>
      </c:catAx>
      <c:valAx>
        <c:axId val="23982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10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923-9295-4585-BDD8-D12F4719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751-BD2E-47AB-81D3-C7EF6A04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42A-1ECB-47B8-A3CC-B41D3ED7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BC4-BF5A-44A8-BA68-26F063C2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522-F72C-4F0A-B82B-0679049E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893-F50F-4401-BF05-1533DBDA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008-6BFC-4FB6-9AC5-E1F9EFD5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6F2-9697-46A2-8009-2AAD13C5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BF8-D5DD-4150-A2A7-623319CD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3D5-D6C6-4114-91D7-F8B68CB4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F74-EFAB-4C2F-BF2A-E661957D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581-0763-422C-A0B0-33FE552F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ADFE7-7961-40AB-A0CB-A3818303D2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