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91323"/>
        <c:axId val="85716923"/>
      </c:barChart>
      <c:catAx>
        <c:axId val="98291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6923"/>
        <c:crosses val="autoZero"/>
        <c:auto val="1"/>
        <c:lblAlgn val="ctr"/>
        <c:lblOffset val="100"/>
        <c:noMultiLvlLbl val="0"/>
      </c:catAx>
      <c:valAx>
        <c:axId val="85716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1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CB6-6811-4E7E-B8F3-9F1CA66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A84-7A95-417D-BC84-7FE4BFC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62D-B8D4-46A9-A663-1948A8B1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D97-3B3A-4399-B57E-618FCAE1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2F1-4AD8-43C2-94B8-EC9A456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81D-6E56-4FCE-BDCC-CFF9C06C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F9F-2F6D-41A3-BB43-EF62EAC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295-1206-4439-B34D-0FBBB403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793-7904-42FE-8566-D6E5F920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5C2-E9CA-4D41-A8A1-E6C4E75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818-9095-486A-9CD9-68D79A5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AA9-F1B8-442E-B38D-A451A77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FA2D-85C9-42C6-940D-3171795C2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