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11506"/>
        <c:axId val="59067584"/>
      </c:barChart>
      <c:catAx>
        <c:axId val="33111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7584"/>
        <c:crosses val="autoZero"/>
        <c:auto val="1"/>
        <c:lblAlgn val="ctr"/>
        <c:lblOffset val="100"/>
        <c:noMultiLvlLbl val="0"/>
      </c:catAx>
      <c:valAx>
        <c:axId val="59067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11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FF3-0D0E-4C82-8DBC-5DB374A6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CF6-0C0D-469C-86D4-993AFEF7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F92-BE95-439C-BF6A-772F776E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0CF-3C80-4A94-BAC0-A2DEC0E1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284-0ABD-49E1-844F-94A55639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7F4-BF5F-49D7-93F2-97D0AFCB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AAE-6755-4D14-AE52-02C4985E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CC8-E414-42EA-9E41-F48A4BE7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AE8-97A1-4CFF-8735-0C816E50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B24-A042-4F42-85F7-9D21D072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035-9AB2-4DCA-AA68-5C2A635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E56-A982-4AA8-9279-2B8425F6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C286C-E35C-441A-86D9-C6FF537637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