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02977"/>
        <c:axId val="32212655"/>
      </c:barChart>
      <c:catAx>
        <c:axId val="89602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2655"/>
        <c:crosses val="autoZero"/>
        <c:auto val="1"/>
        <c:lblAlgn val="ctr"/>
        <c:lblOffset val="100"/>
        <c:noMultiLvlLbl val="0"/>
      </c:catAx>
      <c:valAx>
        <c:axId val="32212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02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F6A-67E3-4D13-925C-CB7B7D6B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569-3D45-4C35-9196-397E628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BF1-BF61-44FB-A743-E58A48D7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03D-092F-4655-BDF7-A1D26469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AE0-570D-4713-A433-70F55E7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26B-4C4C-4C04-A1DA-076C5A4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AD-5D62-42E3-9C93-BAA2358F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EF6-CC6B-466A-BF3A-4AF0C88B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453-2C69-4B7E-ABF9-246A4D4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AC1-4BCF-49DC-8938-2F9A937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308-B1EA-490C-B34B-BB78EE0B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6C9-7BB6-4300-B235-BF34763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9C5B0-D574-4DF1-9EEC-48F01B7D29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