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19849"/>
        <c:axId val="42035950"/>
      </c:barChart>
      <c:catAx>
        <c:axId val="36219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35950"/>
        <c:crosses val="autoZero"/>
        <c:auto val="1"/>
        <c:lblAlgn val="ctr"/>
        <c:lblOffset val="100"/>
        <c:noMultiLvlLbl val="0"/>
      </c:catAx>
      <c:valAx>
        <c:axId val="42035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19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1BB-88B1-41F1-87A3-DC47035F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D36-E427-4B97-9F50-A7452BF0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F13-C9F8-400E-8CBE-A187ABBD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3D9-809C-4C16-98D0-73651451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99C-C6C3-45A3-8236-AE936D26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CEE-68F4-4778-B4CD-1DBB824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0D4-800E-4E81-802E-94EB09E8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1B4-C800-41C2-84CF-67D860F2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A1C-C967-4EF8-8CC7-8BDA4D04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E4B-49C2-4597-97A6-CD95CDA5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573-DC30-4D38-8808-AC216C02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8F9-9781-4ACE-9448-EE83F89A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86B9-F467-4F70-9DC5-29769FF3CC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