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75102"/>
        <c:axId val="63603538"/>
      </c:barChart>
      <c:catAx>
        <c:axId val="37275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03538"/>
        <c:crosses val="autoZero"/>
        <c:auto val="1"/>
        <c:lblAlgn val="ctr"/>
        <c:lblOffset val="100"/>
        <c:noMultiLvlLbl val="0"/>
      </c:catAx>
      <c:valAx>
        <c:axId val="63603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5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C77-5054-4D92-8E67-37C87C9B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0CF-61D8-4E3C-86E3-F094CFD0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720-3512-4A66-A6E6-B295BB6B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4BD-3DF1-465E-BDCE-73E202F7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AF9-F704-45CD-9A0C-9DBA4852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4CF-1911-4F7E-9EC1-79C32756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B03-4963-4B4C-8ADF-C37EF838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F86-0111-4CFD-81AE-00C12658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97D-F142-4E08-8878-6B029FDB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1F5-0CCC-4CF7-8EBC-32745579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76B-0944-406A-AE98-50F291B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260-2478-42D2-BA9B-7B4A0071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D838F-1E21-4C9B-8782-5EC598A396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