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211671"/>
        <c:axId val="83646433"/>
      </c:barChart>
      <c:catAx>
        <c:axId val="282116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46433"/>
        <c:crosses val="autoZero"/>
        <c:auto val="1"/>
        <c:lblAlgn val="ctr"/>
        <c:lblOffset val="100"/>
        <c:noMultiLvlLbl val="0"/>
      </c:catAx>
      <c:valAx>
        <c:axId val="836464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116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F1D3-1DD8-4D8B-9929-AECEB64C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073B-7DBE-4CDD-9BB3-B994533E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EC0B-DF3B-4A6C-8E22-DCDF93F6F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93E0-9F77-494F-861E-04AEC4AF7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8861-698A-4A1F-905A-734A6A59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4275-CDF1-4AB6-94E2-D0D99D80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30B6-7F71-43D7-B16F-60267F39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EFBA-C8EA-463E-901A-7DDCD3F0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5CB-FC79-4BDE-99CF-2DE50C61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4FD7-B84D-4E46-A461-03F353FB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1AA0-82F8-4D3C-AF42-A5196915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1A50-9500-467F-9F08-7451A182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989CB-E192-4076-BE30-7B1D81630B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