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04270"/>
        <c:axId val="80828403"/>
      </c:barChart>
      <c:catAx>
        <c:axId val="54704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28403"/>
        <c:crosses val="autoZero"/>
        <c:auto val="1"/>
        <c:lblAlgn val="ctr"/>
        <c:lblOffset val="100"/>
        <c:noMultiLvlLbl val="0"/>
      </c:catAx>
      <c:valAx>
        <c:axId val="80828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04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007-6CCC-4E05-9DA6-3D09054D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73B-F406-4B3B-B4E7-91330445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68A-2158-4FDD-85D3-5D88A823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C85-6761-4A66-BC3A-EEFD4DC2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C9F-62F5-438E-84EA-B38D86AC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35B-AD19-4971-8022-E3C366C4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05D-5C0C-4A70-B012-4B02C0F4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446-3BC1-4E8A-ACCA-1082F92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273-90BE-480B-8540-8219EAA4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E35-5CF7-4C1D-B683-92514D78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2B0-11A0-4882-B817-DE5855D5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EB5-F32B-42F8-8158-B8EB559F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95B7A-2525-444B-978A-0983731EBC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