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58398"/>
        <c:axId val="34987380"/>
      </c:barChart>
      <c:catAx>
        <c:axId val="39658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87380"/>
        <c:crosses val="autoZero"/>
        <c:auto val="1"/>
        <c:lblAlgn val="ctr"/>
        <c:lblOffset val="100"/>
        <c:noMultiLvlLbl val="0"/>
      </c:catAx>
      <c:valAx>
        <c:axId val="34987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58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B73-86C0-40E9-9281-6D111DF0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72C-01B2-472F-A1D4-59E8E132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421-A7B3-4593-B68D-F5318A70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6A7-51AF-428A-B53C-BEA54982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A9A-A182-4F41-99CB-03AC2D83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CAB-A296-48E7-AF32-55A82717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D5F-31DE-4BE9-A222-A06E354D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25E-BD7D-4EE4-9AEE-9E7A0817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B15-0E4A-4AA6-8EA0-34F6D0F1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EA5-AC7A-4A08-905C-143F439A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302-FA90-4A53-9C27-5CBE4CB1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8C5-1F3E-400F-8EF1-984A89C5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C5FBB-5152-410B-9C32-8115822C73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