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37628"/>
        <c:axId val="98212445"/>
      </c:barChart>
      <c:catAx>
        <c:axId val="56137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12445"/>
        <c:crosses val="autoZero"/>
        <c:auto val="1"/>
        <c:lblAlgn val="ctr"/>
        <c:lblOffset val="100"/>
        <c:noMultiLvlLbl val="0"/>
      </c:catAx>
      <c:valAx>
        <c:axId val="98212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37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CE5-FF7A-4D4B-8544-9DBBC92D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EE7-04EC-4BF4-81CD-E09EBF1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4A1-9AE5-4FA2-902D-D68D8FC0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E23-A318-4F16-9A11-0C2AE106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D15-4B58-427E-8DEE-BFDAF5B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195-7AD1-4EB4-9814-313079F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D1A-B712-4D95-974C-AAC62714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020-618B-42DA-931E-6E7563C6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257-3256-483F-991A-1AC1819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9328-6026-4C2D-A416-D401375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0DC-CF76-4635-A690-B5DD5E3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C10-F65F-4762-BF3F-0A2076E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240CC-C23C-4818-9D89-6C9BFD4BF2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