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24628"/>
        <c:axId val="82620123"/>
      </c:barChart>
      <c:catAx>
        <c:axId val="29824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20123"/>
        <c:crosses val="autoZero"/>
        <c:auto val="1"/>
        <c:lblAlgn val="ctr"/>
        <c:lblOffset val="100"/>
        <c:noMultiLvlLbl val="0"/>
      </c:catAx>
      <c:valAx>
        <c:axId val="82620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24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3018-F9D7-4910-A2A2-38FE19AB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8F79-87B4-4D91-8CF0-B58AE83B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8D2-FF61-4F9A-B3B2-EB8F0DA7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ADF-8C1B-4362-B0B3-758A53C7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A2D-408E-46F2-916B-4D238B8E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D1B-2289-449A-B787-00DC83D6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027-D0A6-414A-85AE-E0F51523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F13F-6C2D-4C23-B29E-345A8A25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CCF8-9BDB-4125-9B42-BC9D0CCB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848-2BD1-41AA-A234-9093760F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DA19-C55B-4F85-9F83-EC3BED36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CDE-23A4-4BFF-9A24-76A17819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84F17-551B-44BE-A9EE-F166F27063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