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369526"/>
        <c:axId val="46059195"/>
      </c:barChart>
      <c:catAx>
        <c:axId val="803695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059195"/>
        <c:crosses val="autoZero"/>
        <c:auto val="1"/>
        <c:lblAlgn val="ctr"/>
        <c:lblOffset val="100"/>
        <c:noMultiLvlLbl val="0"/>
      </c:catAx>
      <c:valAx>
        <c:axId val="460591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3695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A66D-F168-4576-8CDE-74D80627C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5EF9-1691-4A9E-8DC9-C593D5A7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D44F-35DB-49C6-9FB6-17DD02A9D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4C92-1F51-4BC6-9070-3C2E6286F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BBD1-17A2-4444-A959-E026DC47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11DC-3749-448B-92B0-38832E4D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4E4A-212F-4CC5-ABED-73FED647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31FD-2F20-4FCB-A3B1-C265D32A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6B62-0EA7-4D15-8E3B-2087D79A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4F17-A02A-4774-87E7-BB02E0BB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9BDF-3B47-4510-A7B2-F559B2FF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2F3E-73B2-4554-850C-C6D14F10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ED072A-239A-4977-915D-632956E675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