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21450"/>
        <c:axId val="11951952"/>
      </c:barChart>
      <c:catAx>
        <c:axId val="44621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51952"/>
        <c:crosses val="autoZero"/>
        <c:auto val="1"/>
        <c:lblAlgn val="ctr"/>
        <c:lblOffset val="100"/>
        <c:noMultiLvlLbl val="0"/>
      </c:catAx>
      <c:valAx>
        <c:axId val="11951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21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F16-4AE8-4967-9949-DC13B17A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E46-B36F-4133-894D-47295D00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66E-2409-4784-A88A-44D939D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713-43CB-4820-B4DD-4366F141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B1C-15DB-4ECC-BC85-D3771BCC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D7C-B883-4D5D-A100-58D8C79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EBC-C9F3-46F8-A76F-CF1B3B18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7F0-6203-4D1F-AED1-8D77576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290-AA05-4CCA-A1CF-24EFAFF9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0ED-3A2E-4396-B41F-70C34D9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0A6-E7C5-4D96-8A49-F938B95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A02-AA1B-472C-9897-2AF2B3A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338B-9A65-4AF3-9AB3-936C3AFA96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