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040357"/>
        <c:axId val="11717038"/>
      </c:barChart>
      <c:catAx>
        <c:axId val="670403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717038"/>
        <c:crosses val="autoZero"/>
        <c:auto val="1"/>
        <c:lblAlgn val="ctr"/>
        <c:lblOffset val="100"/>
        <c:noMultiLvlLbl val="0"/>
      </c:catAx>
      <c:valAx>
        <c:axId val="117170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0403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6F63-07F3-4F5C-A921-63A2B86CF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A951-F054-4030-B281-44220A16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1E6B-EE9F-499C-BACD-80B2DA8FC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8D88-C45E-4CC6-8D88-F25B6323B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19EF-DF68-4E44-AB45-D1CD951F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2E0A-4785-40B1-9E45-00D67EDC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76D7-2232-4BCE-B039-0E8CF3B4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BD65-BF8D-4FDC-B703-14606B00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EA21-91F8-41C1-AB90-D61FFCDE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40FD-A85A-4F17-9EFC-E95629BF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B080-38E4-42EA-9716-CB69B86D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64D9-F45B-4979-8A32-A0EC2685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156E4-8BE9-452D-AD0C-C9D20AC94A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