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31420"/>
        <c:axId val="37327692"/>
      </c:barChart>
      <c:catAx>
        <c:axId val="69431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27692"/>
        <c:crosses val="autoZero"/>
        <c:auto val="1"/>
        <c:lblAlgn val="ctr"/>
        <c:lblOffset val="100"/>
        <c:noMultiLvlLbl val="0"/>
      </c:catAx>
      <c:valAx>
        <c:axId val="37327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31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97BA-27B9-461F-A38C-B0074065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5BAB-B4E6-44D0-AFCF-BF0BBA29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2F6-C74E-43A7-81DA-8961D901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8CA9-7E4A-4727-81D9-AEB6D9C3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17E1-3611-4ADE-9571-484D3A4D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50D-CAD1-4BFA-BBC8-815E9F2C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E57B-4D20-4CFE-9BCF-F5C6211A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4B2-4130-4550-ACDD-A186988F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93B-5735-4F36-9644-F7E2AE90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DAA4-6608-498A-94D9-961DC628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EB76-9ED7-44FF-B5C7-B674AE9E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0C6-5CF5-4A6D-8AD8-A2B5C4D3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2D422-F446-490F-96F6-0BB716F0F2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