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82053"/>
        <c:axId val="89962398"/>
      </c:barChart>
      <c:catAx>
        <c:axId val="12182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2398"/>
        <c:crosses val="autoZero"/>
        <c:auto val="1"/>
        <c:lblAlgn val="ctr"/>
        <c:lblOffset val="100"/>
        <c:noMultiLvlLbl val="0"/>
      </c:catAx>
      <c:valAx>
        <c:axId val="89962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82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90E-25A4-4453-AE94-35F9B1FD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C17-3245-45AC-9F90-978FF4C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EA9-3FD1-4F76-AB99-8E07B876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E62-445B-4F52-98DA-BFDE57DA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0DA-88DE-48CD-8EC8-597A36D8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BAB-3785-4AFC-B12B-01D6D29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B1C-9735-4405-B14B-08609B10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F1C-CC20-447D-B3C1-5EC2775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4B2-98A6-4142-8AD9-35A39F8C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9CB-D02A-464E-9625-6A63D34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257-7AC9-49DB-BACD-7B85B20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E63-3695-4FD6-BC19-89A0FE4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8A851-EB4C-4F59-9EA2-745B39645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