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7097"/>
        <c:axId val="36184936"/>
      </c:barChart>
      <c:catAx>
        <c:axId val="2697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84936"/>
        <c:crosses val="autoZero"/>
        <c:auto val="1"/>
        <c:lblAlgn val="ctr"/>
        <c:lblOffset val="100"/>
        <c:noMultiLvlLbl val="0"/>
      </c:catAx>
      <c:valAx>
        <c:axId val="36184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7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727-DE3B-457D-A0C3-2C77C258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194-4747-4162-B431-EE63F2BA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524-505F-4200-A29C-A361CB8E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D6C-7EF9-4A89-9AA9-CC670F9A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8AD-B3DB-46F6-95C1-F625F0AB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30C-622E-4F59-873D-D80BA00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A5F-8339-4A39-B6BD-BDF897D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927-5FBD-457D-9E99-F9F5DD6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C49-F1B8-4D18-9417-155D5E8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8EB-BEA9-4B83-9023-AC2EB2C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C60-9905-4E7A-8B56-147BCFEB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765-4149-4C3F-92B5-0B0EAE6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FE8F7-9499-4CFB-96BB-3E5C368803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