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944497"/>
        <c:axId val="40354421"/>
      </c:barChart>
      <c:catAx>
        <c:axId val="859444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354421"/>
        <c:crosses val="autoZero"/>
        <c:auto val="1"/>
        <c:lblAlgn val="ctr"/>
        <c:lblOffset val="100"/>
        <c:noMultiLvlLbl val="0"/>
      </c:catAx>
      <c:valAx>
        <c:axId val="403544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9444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B746-5318-4127-9576-39FC51F5E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D1C5-05E0-4597-B3A3-6C460746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B5CE-F05B-44AD-A44B-E3565CF1A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520C-FCE4-4CE9-84CC-7DA1DAB4A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9A68-66D5-448A-A9B1-1625EBC3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4AB3-2941-46B0-8591-C7799C00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961E-F103-4F04-955C-8DF27081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DD85-D471-4838-90D8-1E9A9717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9770-3737-40E7-B4C2-CD219294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015A-D6FD-4DED-8836-0D1D1FC8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F81C-34B1-47DA-8530-29E38AE4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B469-9E2E-429F-9D38-63CB8095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73AB3-22A6-41E8-A6A3-96037E78BE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