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79560"/>
        <c:axId val="4201910"/>
      </c:barChart>
      <c:catAx>
        <c:axId val="31079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1910"/>
        <c:crosses val="autoZero"/>
        <c:auto val="1"/>
        <c:lblAlgn val="ctr"/>
        <c:lblOffset val="100"/>
        <c:noMultiLvlLbl val="0"/>
      </c:catAx>
      <c:valAx>
        <c:axId val="4201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9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F68-FFA8-4248-8959-3675A983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DE0-6F2B-48E9-B16A-BD0A169C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886-9C1E-4BBC-973F-604333EE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71C-E1C2-42F6-BD6E-F03E0EEC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5A2-1442-489D-BD6A-2C31FECF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FD1-D859-4799-9057-FE1DC903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D6E-FAEB-4B55-9FE2-C61B5F94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A3C-93E8-4C56-BE5F-A04D43FA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B89-C8B9-4314-A998-EB986D3F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48B-2F03-4132-9674-6489055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2F6-41A4-48E0-A357-23A8839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6FF-2FDC-4D38-A578-AF9FFAA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8EB28-4A24-44E2-A283-931BA9F99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