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45709"/>
        <c:axId val="40369266"/>
      </c:barChart>
      <c:catAx>
        <c:axId val="393457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69266"/>
        <c:crosses val="autoZero"/>
        <c:auto val="1"/>
        <c:lblAlgn val="ctr"/>
        <c:lblOffset val="100"/>
        <c:noMultiLvlLbl val="0"/>
      </c:catAx>
      <c:valAx>
        <c:axId val="40369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457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8422-0638-448D-9CC3-82D1B5EB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94A8-895B-47BD-85E8-AFBE9D59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770-CC3C-4BFE-BCFD-A8F25BC5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34F-83FC-41A2-8D2A-1FF59CE8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16C9-DFF6-4971-B4A3-2C1DFC38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0F6-2CDC-4EDC-86F3-92F4CEB6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1D4F-87CF-43B1-9231-C9D34526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60B7-30CE-41D1-BD95-540AE1D6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DD6-B37F-4895-BE42-8861CF6B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899-66F5-4E94-A7D3-B9A28DDD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01A3-A5FB-486B-A252-9A77D10B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D7A9-C663-414E-97D5-5965AB5A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B35FC-6017-415C-8B9B-2A765A77D2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